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F706F-D3E0-4BCD-ABE1-559BA3C00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14E64-D62F-41ED-BF5C-111EA48C2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19BAAE-B975-4E2C-89DD-8349465DE3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E88F67-CB01-460F-A25A-9A83E21F00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C2E0B3-9DCB-41CD-99F8-E4CAC56C8D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CE53F2-2922-4183-8366-DE56805CDC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E93587-FCBA-47DC-9DB0-F7167D97A4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D96042-B636-46FC-83ED-8DCB093DD3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55F704-4752-4F9C-80D4-17093D4BBA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52D551-7306-47D9-9F5A-2BFC73D3BD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1922E2-7DEB-4FE5-B644-E910C2AEF7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058FAC-5471-4164-9BBD-4FBA981394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354A8-0827-4766-B4B5-E16CF6378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F01E88-AAFA-4145-8ED0-5D68185B5F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2D5214-C826-43AF-A8BE-717A33A9A5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7FDCD5-DC7B-43E1-A9B7-BD54753BCA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6D69C1-970B-4506-A8F8-DCB9C6EF85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BC50B2-CA5F-42A6-A16E-924E10EC17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0740CA-5161-4DFB-A760-B6B82C6073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5FEF50-F769-4BC3-AE3A-D91A87594A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CAAEFB-2341-4D93-B0A1-C156B1C633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9D7EB4-3CE4-4CA7-A649-6C25E99538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243E2E5-52A7-49BB-B102-B6236EC305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2952A-28C0-45CD-BA76-A1F520396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BAE602-B7FD-45C2-9171-0406A7284A2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72260B7-EF02-452A-8CFD-06FC0F44255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381248-8C52-431D-9586-8246C9DCA1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C06F6D-E35D-4FB8-8B22-C1C6C72D93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5BB51F-FA35-4D08-B5EE-C6DCB4596A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D55C1C-885B-4D73-B86D-F110FD0FD2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B64212-2D40-44B4-8B64-7B4CBA782C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7AB82A-3B84-4FEB-B7C7-A0A90CF8B5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DAB72A-8D33-4971-B557-7F4D1898A6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106A6C-B535-41C1-8F75-374FA3FF86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F2AE90-46C9-4F43-8F65-23899E85C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309615-2325-4272-A9B7-7A2CEF4258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150E475-7B40-4CFF-B934-246DA5C897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A82EFD-9D1E-485B-B482-8CC736C35DC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EF1A245-FE1B-41E0-AE87-F9C0FCC0132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D19152-EDD7-427A-AA6E-63D09EACA9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18E66B-312E-4200-A088-B4E57FABEA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49DD43-699F-472F-9B53-931E749BE6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F9318D-EE41-49D4-A810-3AC5E1C9E4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23CCCB-0C11-4329-B09A-7C887517116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3595B9-5769-4460-9732-5C99326E81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ACE20-3C61-4BCA-8B73-5EC385291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9723A3-714D-4CC7-AD42-A2BAF8940C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1DD347-0ADD-4C9B-8BEC-B8D18A4ECA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698212-69AB-469E-8FC9-F3592BA4FE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B988EB3-EACB-4F63-849B-C82C061A0B2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62AEC2-F844-4992-8892-5C296AF2325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9D2A5-F743-45C2-988B-3782D0026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2FAE1-DC7F-454A-86CA-53A71F9E2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B8B6C-8157-4D62-ABEA-E92F32C1C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3DE26-BD90-4A1E-93E5-6207AF493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E6A6E-9E0C-4C7E-9AEE-0208E8616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B182E-20BC-477E-804E-305BC25E2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ECCF4-7DD2-4DB5-BA1A-DA2316ED0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4C128-4E63-4DC8-8BDE-651512918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4BDCE-563A-441B-82A4-DB2577ADB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EA7A9-133B-446E-A8EC-74E252610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A661F-6F03-4715-9294-315F48809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70C829-5F67-4E4A-8123-D36E231A43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CCC8BC-2FDB-4A1E-9D9F-EAC18C5E35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AF698D-2B87-4B8E-8A83-EB5869AC84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13447-D1EF-4835-847D-A3CB9C0ADA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B7A3DC-77D8-4979-9F30-209A2C460D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1742D-2403-47B1-8FFC-C85AE0910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B5FFD-CE6B-412A-9E4E-53C6CAEB40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A7340-05B7-4994-BE25-01B269366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A09B00-D795-4503-9FF0-91503236F6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4ECD1-C571-45F9-889C-7EC1DD0BC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827B14-8C91-4683-93D7-DAFA6A4531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EDC972-9095-404A-9A03-4B3887DFF7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8229A7-3058-44BD-A304-613FDF2661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0C729E-F415-4352-BA59-027CDEC6FD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4663D8-8777-46C3-87BC-D819964B73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EA7976-EAFD-453C-BCF5-E53527D45E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D9C57-FF72-4AD9-8082-ACE587629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A9FBAD-7AD8-4EC2-91D0-717C5B8C1E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6A829D-FF8E-4780-97B9-2501F6C5E0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6D5EF0-15D6-43D9-A8B9-84B24C1234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56ED8A-3246-4BB9-BAFA-8296BBF938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F8C711-2B2C-4E69-80BC-29DE6C87A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12BDF-9EA3-48DF-AF23-E699EA81C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B18589-27F8-4923-BBB5-D41122ABBA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8C4727-2B2B-4F8F-95E3-8814027062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4A2D49-6E0B-4430-8554-41EB60FDD9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FBF48C-6368-4331-A148-D60112A86F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E3DFB-6FC3-465C-88A5-41B84E656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9A05D4-4924-4F08-91C5-59E9291638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182A59-3101-46A8-8C00-ABE094DDA7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BD016B-D80D-470F-89B0-2C13566292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47D12A-24FB-4E26-9C34-8E2EE1F7FB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637079-5127-4830-969F-C3E14F2E98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28126D-D991-4E54-9EA4-6DBD18619A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8BDABF-D082-4377-9CDF-B7AA27FE5A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11E379-7913-413C-A4FB-3FACA8B5D2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851B32-2196-47DC-94DF-E2960D6888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C76279-3A6F-4AF3-899E-00246F5E6C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A142A-AF7A-47A2-B09B-4EAA49FC8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30031B-5CDD-498F-9F92-AB014FA6A2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C67834-BBDD-488B-88B2-4BEDBB1377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B8BA61-ABA4-4410-BE60-4B4EFDA991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B69C7C-C131-47C3-B62E-C7A9D2D2BD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5CE595-80C5-4C4D-81BA-90488C6A77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8D532F-F145-4000-AA99-5FF2EB38B9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E613D3-C331-4749-9C64-12554292A0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A16FCD-8905-478A-BBA1-CB488BF44F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66E0DE-39DE-48F1-AD8A-319B06F0A7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7BD63D-93C8-4BAA-9DF3-E72EA33658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B2F34-DA0D-4EC8-AF35-9D401662B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444B38-B4A0-4F75-BB9A-19AE9F39FB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F18B7F-1184-4FDA-9254-450B64A36D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796564-03CD-40D4-8DFC-972F597BF1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BB4BF5-656F-4DA3-A850-A1569DF806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52429F-F1B2-4E8F-B83B-E144638E4E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E98E96-2969-421E-9014-9280466934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E357DE-4429-4511-A0A3-7175FF6D08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E1653F-08C4-4141-9BBE-1CC6E2EE4D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353FE5-0613-423B-9453-07B94E7D3B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E06EED-CFB6-4775-A966-649A7A1CCD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D35CC-0BBF-4123-962D-FF84A4CAB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79E5FE-9BE0-4D83-A571-B7CC1C3D18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9806A6-5D9F-4FF0-B735-C8047EA58B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666E13-C707-400E-945B-2AA21B4523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278C43-ECC3-43CC-B4FE-A2B119D9A9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1BC67D-74DD-4A02-A59F-8B728D630F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7FC541-8A63-42A0-9EFF-5B68B1095D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26ED68-7032-43D6-8891-7E79E4AB43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721169-CCC1-461D-B007-003D7FBC10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3E6F4D-09E1-4C71-A406-ED29974A28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7A185B-B264-459E-A119-384B2ECFA1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52D4B-BC47-401A-825A-F45B4324F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CD46B7-90C3-4C14-B703-83AACEA12B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00849A-F72F-4ADB-9B9F-70DC187273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627174-6E32-4E39-8407-AEF89CBF7D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E4D756-22CE-41E2-A846-02155154B6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FD9381-6EA4-4CBA-8B23-254B7F898B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9D6D52-F593-4384-BDA2-CC5198AFB9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6393CC-2FF6-4730-8AF8-F619892AA3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FE6383-199F-4012-9579-54CB4B81F4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C484B8-F2C5-4BE5-B13F-9568AED662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51B96F-3461-4714-BF23-4948069FFDE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720655-6A26-4F4E-86C1-03FFAAAC1F33}"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A4C63-9373-4CC8-811D-2E219A5BF3AF}"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AEB18-AC01-4584-8866-3DDE563D33BF}"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2"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4"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5EFB-B636-40C4-A61B-8A9A7E48D28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2574-0AE5-459E-9F31-666C051849F4}"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BCA1A-5AB5-4870-81C1-39FC4D8E53F5}"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45227-B2BE-4E64-B07F-B4FE19086CED}"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82AA2C-27EF-408B-869D-4E9DF03B9EA1}"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8E569A-56E2-45DA-9D4D-51B50A451868}"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31F6C-9DDC-4A72-9DA3-E2CA302BD654}"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0340A-32B5-4C86-A180-484C7F46A63C}"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94910-55B2-4797-93CF-F5A5D4C1D33A}"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80680" y="840960"/>
            <a:ext cx="10993320" cy="93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a3260"/>
                </a:solidFill>
                <a:latin typeface="Gill Sans MT"/>
              </a:rPr>
              <a:t>ANTREPRENORIAT SOCIAL – DEZVOLTARE DURABILĂ, PREMISE, PERSPECTIVE ȘI IMPACT</a:t>
            </a:r>
            <a:r>
              <a:rPr b="1" lang="sr-Latn-RS" sz="1800" spc="-1" strike="noStrike">
                <a:solidFill>
                  <a:srgbClr val="122c9a"/>
                </a:solidFill>
                <a:latin typeface="Gill Sans MT"/>
              </a:rPr>
              <a:t>.</a:t>
            </a:r>
            <a:endParaRPr b="0" lang="en-US" sz="1800" spc="-1" strike="noStrike">
              <a:solidFill>
                <a:srgbClr val="ffffff"/>
              </a:solidFill>
              <a:latin typeface="Gill Sans MT"/>
            </a:endParaRPr>
          </a:p>
        </p:txBody>
      </p:sp>
      <p:sp>
        <p:nvSpPr>
          <p:cNvPr id="570"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DINU MANOLE, FORMATOR</a:t>
            </a:r>
            <a:endParaRPr b="0" lang="en-US" sz="1600" spc="-1" strike="noStrike">
              <a:solidFill>
                <a:srgbClr val="3d3d3d"/>
              </a:solidFill>
              <a:latin typeface="Gill Sans MT"/>
            </a:endParaRPr>
          </a:p>
        </p:txBody>
      </p:sp>
      <p:pic>
        <p:nvPicPr>
          <p:cNvPr id="571" name="Picture 3" descr=""/>
          <p:cNvPicPr/>
          <p:nvPr/>
        </p:nvPicPr>
        <p:blipFill>
          <a:blip r:embed="rId1"/>
          <a:stretch/>
        </p:blipFill>
        <p:spPr>
          <a:xfrm>
            <a:off x="208080" y="3033720"/>
            <a:ext cx="11802960" cy="341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9" name=""/>
          <p:cNvSpPr txBox="1"/>
          <p:nvPr/>
        </p:nvSpPr>
        <p:spPr>
          <a:xfrm>
            <a:off x="580680" y="2020680"/>
            <a:ext cx="11030040" cy="3678120"/>
          </a:xfrm>
          <a:prstGeom prst="rect">
            <a:avLst/>
          </a:prstGeom>
          <a:noFill/>
          <a:ln w="0">
            <a:noFill/>
          </a:ln>
        </p:spPr>
        <p:txBody>
          <a:bodyPr anchor="ctr">
            <a:normAutofit/>
          </a:bodyPr>
          <a:p>
            <a:pPr algn="ctr">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800" spc="-1" strike="noStrike">
                <a:solidFill>
                  <a:srgbClr val="3b3b3b"/>
                </a:solidFill>
                <a:latin typeface="Open Sans"/>
              </a:rPr>
              <a:t>Pace</a:t>
            </a:r>
            <a:endParaRPr b="0" lang="en-US" sz="2800" spc="-1" strike="noStrike">
              <a:solidFill>
                <a:srgbClr val="3d3d3d"/>
              </a:solidFill>
              <a:latin typeface="Gill Sans MT"/>
            </a:endParaRPr>
          </a:p>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3b3b"/>
                </a:solidFill>
                <a:latin typeface="Open Sans"/>
              </a:rPr>
              <a:t>„</a:t>
            </a:r>
            <a:r>
              <a:rPr b="0" i="1" lang="ro-RO" sz="2800" spc="-1" strike="noStrike">
                <a:solidFill>
                  <a:srgbClr val="3b3b3b"/>
                </a:solidFill>
                <a:latin typeface="Open Sans"/>
              </a:rPr>
              <a:t>Suntem hotărâți să încurajăm societățile pașnice, juste și inclusive, care sunt libere de frică și violență. Nu poate exista dezvoltare durabilă fără pace și pace fără dezvoltare durabilă”</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1" name=""/>
          <p:cNvSpPr txBox="1"/>
          <p:nvPr/>
        </p:nvSpPr>
        <p:spPr>
          <a:xfrm>
            <a:off x="1154160" y="2358720"/>
            <a:ext cx="1055520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400" spc="-1" strike="noStrike">
                <a:solidFill>
                  <a:srgbClr val="3b3b3b"/>
                </a:solidFill>
                <a:latin typeface="inherit"/>
              </a:rPr>
              <a:t>Parteneriate</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400" spc="-1" strike="noStrike">
                <a:solidFill>
                  <a:srgbClr val="3b3b3b"/>
                </a:solidFill>
                <a:latin typeface="inherit"/>
              </a:rPr>
              <a:t>„</a:t>
            </a:r>
            <a:r>
              <a:rPr b="0" i="1" lang="ro-RO" sz="2400" spc="-1" strike="noStrike">
                <a:solidFill>
                  <a:srgbClr val="3b3b3b"/>
                </a:solidFill>
                <a:latin typeface="inherit"/>
              </a:rPr>
              <a:t>Suntem hotărâți să mobilizăm mijloacele necesare punerii în aplicare a Agendei de Dezvoltare Durabilă 2030, printr-unparteneriat global revitalizat pentru dezvoltare durabilă, bazat pe un spirit de solidaritate globală consolidat,axat în specialpe nevoile celor mai săraci și mai vulnerabili și cu participarea tuturor țărilor, toate părțile interesate și toate persoanele”</a:t>
            </a:r>
            <a:r>
              <a:rPr b="0" lang="ro-RO" sz="2400" spc="-1" strike="noStrike">
                <a:solidFill>
                  <a:srgbClr val="3b3b3b"/>
                </a:solidFill>
                <a:latin typeface="Open Sans"/>
              </a:rPr>
              <a:t> </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3" name=""/>
          <p:cNvSpPr txBox="1"/>
          <p:nvPr/>
        </p:nvSpPr>
        <p:spPr>
          <a:xfrm>
            <a:off x="580680" y="2180880"/>
            <a:ext cx="1103004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c00000"/>
                </a:solidFill>
                <a:latin typeface="inherit"/>
              </a:rPr>
              <a:t>SND ,,Moldova 2030"- o strategie despre oameni și pentru oameni</a:t>
            </a:r>
            <a:endParaRPr b="0" lang="en-US" sz="2400" spc="-1" strike="noStrike">
              <a:solidFill>
                <a:srgbClr val="3d3d3d"/>
              </a:solidFill>
              <a:latin typeface="Gill Sans MT"/>
            </a:endParaRPr>
          </a:p>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Viziunea și obiectivul strategic major al SND ,,Moldova 2030" este centrat pe calitatea vieții, ceea ce implică o definire clară a dimensiunilor acesteia, identificare a principalilor factori determinanți și actori ai schimbării și atribuire a unui set de indicatori statistici pentru măsurarea tendințelor recente, situației actuale, perspectivelor de dezvoltare și țintelor pertinente pentru intervențiile strategice.</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5"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b3b3b"/>
                </a:solidFill>
                <a:latin typeface="Open Sans"/>
              </a:rPr>
              <a:t>SND ,,Moldova 2030" este dezvoltată în jurul a 4 priorități, structurate în 10 obiective pe termen lung</a:t>
            </a:r>
            <a:r>
              <a:rPr b="1" lang="ro-RO" sz="2400" spc="-1" strike="noStrike">
                <a:solidFill>
                  <a:srgbClr val="3b3b3b"/>
                </a:solidFill>
                <a:latin typeface="Open Sans"/>
              </a:rPr>
              <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b3b3b"/>
                </a:solidFill>
                <a:latin typeface="inherit"/>
              </a:rPr>
              <a:t>I Economia durabilă și inclusivă:</a:t>
            </a:r>
            <a:endParaRPr b="0" lang="en-US" sz="28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Venituri din surse durabil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decente de trai (infrastructur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Prioritate pe termen mediu: infrastructura drumurilor</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decente de muncă și ocupare informală minimă</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9"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b3b3b"/>
                </a:solidFill>
                <a:latin typeface="inherit"/>
              </a:rPr>
              <a:t>II Capital uman și social robust:</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Educație relevantă și de calitat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Prioritate pe termen mediu: Educație de calitate pentru toți</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pentru o viață sănătoasă și activ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Societate solidară și inclusiv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Echilibru între viața profesională și cea de familie</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1"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b3b3b"/>
                </a:solidFill>
                <a:latin typeface="inherit"/>
              </a:rPr>
              <a:t>III Instituții oneste și eficient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Guvernare transparentă, eficientă, responsabilă și profesionist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Prioritate pe termen mediu:Reforma justiției</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Securitate personală și comunitară înaltă</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3"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3b3b3b"/>
                </a:solidFill>
                <a:latin typeface="inherit"/>
              </a:rPr>
              <a:t>IV Mediul ambiant sănătos:</a:t>
            </a:r>
            <a:endParaRPr b="0" lang="en-US" sz="3200" spc="-1" strike="noStrike">
              <a:solidFill>
                <a:srgbClr val="3d3d3d"/>
              </a:solidFill>
              <a:latin typeface="Gill Sans MT"/>
            </a:endParaRPr>
          </a:p>
          <a:p>
            <a:pPr algn="just">
              <a:lnSpc>
                <a:spcPct val="100000"/>
              </a:lnSpc>
              <a:spcBef>
                <a:spcPts val="7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3b3b3b"/>
                </a:solidFill>
                <a:latin typeface="Open Sans"/>
              </a:rPr>
              <a:t>Mediu ambiant în armonie cu activitatea economică și umană.</a:t>
            </a:r>
            <a:endParaRPr b="0" lang="en-US" sz="3200" spc="-1" strike="noStrike">
              <a:solidFill>
                <a:srgbClr val="3d3d3d"/>
              </a:solidFill>
              <a:latin typeface="Gill Sans MT"/>
            </a:endParaRPr>
          </a:p>
          <a:p>
            <a:pPr algn="just">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05" name="Content Placeholder 6" descr=""/>
          <p:cNvPicPr/>
          <p:nvPr/>
        </p:nvPicPr>
        <p:blipFill>
          <a:blip r:embed="rId1"/>
          <a:stretch/>
        </p:blipFill>
        <p:spPr>
          <a:xfrm>
            <a:off x="444600" y="2284560"/>
            <a:ext cx="2801880" cy="2857320"/>
          </a:xfrm>
          <a:prstGeom prst="rect">
            <a:avLst/>
          </a:prstGeom>
          <a:ln w="0">
            <a:noFill/>
          </a:ln>
        </p:spPr>
      </p:pic>
      <p:sp>
        <p:nvSpPr>
          <p:cNvPr id="606" name="TextBox 9"/>
          <p:cNvSpPr/>
          <p:nvPr/>
        </p:nvSpPr>
        <p:spPr>
          <a:xfrm>
            <a:off x="3017880" y="2805120"/>
            <a:ext cx="82659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Gill Sans MT"/>
              </a:rPr>
              <a:t>Brainstorming</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202124"/>
                </a:solidFill>
                <a:latin typeface="Gill Sans MT"/>
              </a:rPr>
              <a:t>Identificați o provocare majoră a societății moldovenești!</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202124"/>
                </a:solidFill>
                <a:latin typeface="Gill Sans MT"/>
              </a:rPr>
              <a:t>Cum antreprenoriatul social/economia socială poate soluționa această provocare?</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02124"/>
                </a:solidFill>
                <a:latin typeface="Gill Sans MT"/>
              </a:rPr>
              <a:t>Timp</a:t>
            </a:r>
            <a:r>
              <a:rPr b="0" lang="ro-RO" sz="2000" spc="-1" strike="noStrike">
                <a:solidFill>
                  <a:srgbClr val="202124"/>
                </a:solidFill>
                <a:latin typeface="Gill Sans MT"/>
              </a:rPr>
              <a:t>:</a:t>
            </a:r>
            <a:r>
              <a:rPr b="0" lang="en-US" sz="2000" spc="-1" strike="noStrike">
                <a:solidFill>
                  <a:srgbClr val="202124"/>
                </a:solidFill>
                <a:latin typeface="Gill Sans MT"/>
              </a:rPr>
              <a:t>15 min</a:t>
            </a:r>
            <a:endParaRPr b="0" lang="en-US" sz="20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08" name="Content Placeholder 4" descr=""/>
          <p:cNvPicPr/>
          <p:nvPr/>
        </p:nvPicPr>
        <p:blipFill>
          <a:blip r:embed="rId1"/>
          <a:stretch/>
        </p:blipFill>
        <p:spPr>
          <a:xfrm>
            <a:off x="2075040" y="1987560"/>
            <a:ext cx="804204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3"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3d3d3d"/>
                </a:solidFill>
                <a:latin typeface="Gill Sans MT"/>
              </a:rPr>
              <a:t>Antreprenoriatul social</a:t>
            </a:r>
            <a:r>
              <a:rPr b="0" lang="ro-RO" sz="2400" spc="-1" strike="noStrike">
                <a:solidFill>
                  <a:srgbClr val="3d3d3d"/>
                </a:solidFill>
                <a:latin typeface="Gill Sans MT"/>
              </a:rPr>
              <a:t> este zona în care se întâlnesc sectorul privat şi voluntariatul. Fondatorii acestor întreprinderi combină conştiinţa socială cu abilităţile comerciale. Pentru ei, responsabilitatea socială nu este un “extra” ci este esenţa</a:t>
            </a:r>
            <a:r>
              <a:rPr b="0" lang="en-US" sz="2400" spc="-1" strike="noStrike">
                <a:solidFill>
                  <a:srgbClr val="3d3d3d"/>
                </a:solidFill>
                <a:latin typeface="Gill Sans MT"/>
              </a:rPr>
              <a:t>. </a:t>
            </a:r>
            <a:endParaRPr b="0" lang="en-US" sz="2400" spc="-1" strike="noStrike">
              <a:solidFill>
                <a:srgbClr val="3d3d3d"/>
              </a:solidFill>
              <a:latin typeface="Gill Sans MT"/>
            </a:endParaRPr>
          </a:p>
          <a:p>
            <a:pPr algn="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rPr>
              <a:t>Dr. Richard Steckel şi Jack Boy </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0"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Cadrului Strategic Comun (CSC), domeniul afacerilor sociale şi incluziunii sociale este subsumat Obiectivului tematic 9 ”Promovarea incluziunii sociale şi combaterea sărăciei”, obiectivul principal al strategiei Europa 2020 de „Promovare a incluziunii sociale, în special prin reducerea sărăciei, urmărindu-se eliminarea riscului de sărăcie şi excludere pentru cel puţin 20 de milioane de persoane”.</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 </a:t>
            </a:r>
            <a:r>
              <a:rPr b="0" lang="ro-RO" sz="2000" spc="-1" strike="noStrike">
                <a:solidFill>
                  <a:srgbClr val="3d3d3d"/>
                </a:solidFill>
                <a:latin typeface="Gill Sans MT"/>
              </a:rPr>
              <a:t>Un rol important în dezvoltarea economiei sociale în Uniunea Europeană (UE) îl au ONG-urile de aceea, din start, trebuie de le acordat o atenție sporită.</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2" name=""/>
          <p:cNvSpPr txBox="1"/>
          <p:nvPr/>
        </p:nvSpPr>
        <p:spPr>
          <a:xfrm>
            <a:off x="580680" y="2180880"/>
            <a:ext cx="11030040" cy="3678120"/>
          </a:xfrm>
          <a:prstGeom prst="rect">
            <a:avLst/>
          </a:prstGeom>
          <a:noFill/>
          <a:ln w="0">
            <a:noFill/>
          </a:ln>
        </p:spPr>
        <p:txBody>
          <a:bodyPr anchor="ctr">
            <a:normAutofit/>
          </a:bodyPr>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d3d3d"/>
                </a:solidFill>
                <a:latin typeface="Gill Sans MT"/>
              </a:rPr>
              <a:t>Nucleul afacerii sociale îl constituie 7 principii:</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1. Obiectivul afacerii este de a eradica sărăcia sau de a eradica una sau mai multe probleme, care amenință societatea-nu acela de a maximiza profitul;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2. Compania trebuie să devină sustenabilă din punct de vedere financiar și economic;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3. Investitorii primesc înapoi doar cât au investit. Nu se acordă dividende peste suma investită inițial;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4. După ce investiția este recuperată de întreprinzător, profitul se reinvestește pentru extinderea și îmbunătățirea activități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5. Compania se comportă conștient față de </a:t>
            </a:r>
            <a:r>
              <a:rPr b="0" lang="ro-RO" sz="1600" spc="-1" strike="noStrike">
                <a:solidFill>
                  <a:srgbClr val="3d3d3d"/>
                </a:solidFill>
                <a:latin typeface="Gill Sans MT"/>
              </a:rPr>
              <a:t>problemele</a:t>
            </a:r>
            <a:r>
              <a:rPr b="0" lang="en-US" sz="1600" spc="-1" strike="noStrike">
                <a:solidFill>
                  <a:srgbClr val="3d3d3d"/>
                </a:solidFill>
                <a:latin typeface="Gill Sans MT"/>
              </a:rPr>
              <a:t> mediulu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6. Personalul angajat primește remunerații la nivelul pieței, beneficiind de condiții mai bune decât cele standard.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7</a:t>
            </a:r>
            <a:r>
              <a:rPr b="0" lang="ro-RO" sz="1600" spc="-1" strike="noStrike">
                <a:solidFill>
                  <a:srgbClr val="3d3d3d"/>
                </a:solidFill>
                <a:latin typeface="Gill Sans MT"/>
              </a:rPr>
              <a:t>. Cei implicați acționează cu bucurie</a:t>
            </a:r>
            <a:r>
              <a:rPr b="0" lang="en-US" sz="1600" spc="-1" strike="noStrike">
                <a:solidFill>
                  <a:srgbClr val="3d3d3d"/>
                </a:solidFill>
                <a:latin typeface="Gill Sans MT"/>
              </a:rPr>
              <a:t>. </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14" name="Content Placeholder 2" descr=""/>
          <p:cNvPicPr/>
          <p:nvPr/>
        </p:nvPicPr>
        <p:blipFill>
          <a:blip r:embed="rId1"/>
          <a:stretch/>
        </p:blipFill>
        <p:spPr>
          <a:xfrm>
            <a:off x="579600" y="2182680"/>
            <a:ext cx="11032920" cy="3675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16" name="Content Placeholder 2" descr=""/>
          <p:cNvPicPr/>
          <p:nvPr/>
        </p:nvPicPr>
        <p:blipFill>
          <a:blip r:embed="rId1"/>
          <a:stretch/>
        </p:blipFill>
        <p:spPr>
          <a:xfrm>
            <a:off x="573120" y="1620720"/>
            <a:ext cx="11045880" cy="4389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18"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Guvernul Republicii Moldova, trebuie să promoveze economia socială în noile sale politici și să apere "abordarea diferită a antreprenoriatului" din cadrul economiei sociale, al cărei motor principal nu este rentabilitatea financiară, ci rentabilitatea socială, astfel încât caracteristicile specifice economiei sociale să fie luate în considerare în mod adecvat la elaborarea cadrelor juridic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20"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onceptul de antreprenoriat social trebuie să fie cultivat la nivel de administrație publică locală astfel, primăriile trebuie să încurajeze ONG-urile locale să dezvolte antreprenoriatul social poentru că aceast lucru dezvoltă comunitatea per general. Astfel de la activitatea pe care o desfășoară un ONG local fiind susținut de primărie, se schimbă spre bine întreaga comunitat</a:t>
            </a:r>
            <a:r>
              <a:rPr b="0" lang="en-US" sz="2400" spc="-1" strike="noStrike">
                <a:solidFill>
                  <a:srgbClr val="3d3d3d"/>
                </a:solidFill>
                <a:latin typeface="Gill Sans MT"/>
              </a:rPr>
              <a:t>e</a:t>
            </a:r>
            <a:r>
              <a:rPr b="0" lang="ro-RO" sz="2400" spc="-1" strike="noStrike">
                <a:solidFill>
                  <a:srgbClr val="3d3d3d"/>
                </a:solidFill>
                <a:latin typeface="Gill Sans MT"/>
              </a:rPr>
              <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622" name=""/>
          <p:cNvSpPr txBox="1"/>
          <p:nvPr/>
        </p:nvSpPr>
        <p:spPr>
          <a:xfrm>
            <a:off x="838080" y="1739520"/>
            <a:ext cx="10515600" cy="4351320"/>
          </a:xfrm>
          <a:prstGeom prst="rect">
            <a:avLst/>
          </a:prstGeom>
          <a:noFill/>
          <a:ln w="0">
            <a:noFill/>
          </a:ln>
        </p:spPr>
        <p:txBody>
          <a:bodyPr anchor="t">
            <a:normAutofit/>
          </a:bodyPr>
          <a:p>
            <a:pPr marL="343080" indent="-343080" algn="just">
              <a:lnSpc>
                <a:spcPct val="7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cu privire la organizațiile necomerciale, Nr. 86 din 11.06.2020, art. 6.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privind antreprenoriatul și întreprinderile, nr. 845-XII din 3.01.1992, Capitolul VI1.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Republicii Moldova cu privire la fundații nr. 581-XIV din 30.07.1999, art. 231</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cu privire la serviciile sociale, nr. 123 din 18.06.2010, art. 11 (2).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incluziunea socială a persoanelor cu dizabilități, nr. 60 din 30.03.2012, art. 32, 36;</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ocuparea forței de muncă și protecția socială a persoanelor în căutarea unui loc de muncă, nr. 102-XV din 13.03.2003.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Nr. 223 din 02.11.2017 privind modificarea și completarea unor acte legislative.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Hotărârea de Guvern nr. 1165 din 28.11.2018 cu privire la aprobarea Regulamentului de organizare și funcționare a Comisiei Naționale pentru Antreprenoriat Social și a listei genurilor de activitate ce constituie activități de antreprenoriat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Ordinul Ministrului Economiei și Infrastructurii nr. 130 din 23 Mai 2019 privind instituirea Comisiei Naționale pentru Antreprenoriatul Social. </a:t>
            </a:r>
            <a:endParaRPr b="0" lang="en-US" sz="1500" spc="-1" strike="noStrike">
              <a:solidFill>
                <a:srgbClr val="000000"/>
              </a:solidFill>
              <a:latin typeface="Calibri"/>
            </a:endParaRPr>
          </a:p>
          <a:p>
            <a:pPr marL="343080" indent="-34308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 SOCIAL – DEZVOLTARE DURABILĂ, PREMISE PERSPECTIVE ȘI IMPACT</a:t>
            </a:r>
            <a:endParaRPr b="0" lang="en-US" sz="2800" spc="-1" strike="noStrike">
              <a:solidFill>
                <a:srgbClr val="ffffff"/>
              </a:solidFill>
              <a:latin typeface="Gill Sans MT"/>
            </a:endParaRPr>
          </a:p>
        </p:txBody>
      </p:sp>
      <p:pic>
        <p:nvPicPr>
          <p:cNvPr id="575" name="Content Placeholder 3" descr=""/>
          <p:cNvPicPr/>
          <p:nvPr/>
        </p:nvPicPr>
        <p:blipFill>
          <a:blip r:embed="rId1"/>
          <a:stretch/>
        </p:blipFill>
        <p:spPr>
          <a:xfrm>
            <a:off x="573120" y="2041560"/>
            <a:ext cx="11247480" cy="420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7" name=""/>
          <p:cNvSpPr txBox="1"/>
          <p:nvPr/>
        </p:nvSpPr>
        <p:spPr>
          <a:xfrm>
            <a:off x="580680" y="2126880"/>
            <a:ext cx="11030040" cy="3678120"/>
          </a:xfrm>
          <a:prstGeom prst="rect">
            <a:avLst/>
          </a:prstGeom>
          <a:noFill/>
          <a:ln w="0">
            <a:noFill/>
          </a:ln>
        </p:spPr>
        <p:txBody>
          <a:bodyPr anchor="ctr">
            <a:norm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0296c"/>
                </a:solidFill>
                <a:latin typeface="Open Sans"/>
              </a:rPr>
              <a:t>AGENDA DE DEZVOLTARE DURABILĂ 2030</a:t>
            </a:r>
            <a:endParaRPr b="0" lang="en-US" sz="2400" spc="-1" strike="noStrike">
              <a:solidFill>
                <a:srgbClr val="3d3d3d"/>
              </a:solidFill>
              <a:latin typeface="Gill Sans MT"/>
            </a:endParaRPr>
          </a:p>
          <a:p>
            <a:pPr>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b3b3b"/>
                </a:solidFill>
                <a:latin typeface="Open Sans"/>
              </a:rPr>
              <a:t>17 Obiective de Dezvoltare Durabilă și 169 de ținte ale Agendei 2030 se încadrează în 5 piloni de bază</a:t>
            </a:r>
            <a:r>
              <a:rPr b="0" lang="ro-RO" sz="2000" spc="-1" strike="noStrike">
                <a:solidFill>
                  <a:srgbClr val="3b3b3b"/>
                </a:solidFill>
                <a:latin typeface="Open Sans"/>
              </a:rPr>
              <a:t>:</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579" name="Picture 2" descr=""/>
          <p:cNvPicPr/>
          <p:nvPr/>
        </p:nvPicPr>
        <p:blipFill>
          <a:blip r:embed="rId1"/>
          <a:stretch/>
        </p:blipFill>
        <p:spPr>
          <a:xfrm>
            <a:off x="2058840" y="1976400"/>
            <a:ext cx="757404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581" name="Content Placeholder 4" descr=""/>
          <p:cNvPicPr/>
          <p:nvPr/>
        </p:nvPicPr>
        <p:blipFill>
          <a:blip r:embed="rId1"/>
          <a:stretch/>
        </p:blipFill>
        <p:spPr>
          <a:xfrm>
            <a:off x="2476440" y="1987560"/>
            <a:ext cx="7475760" cy="42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3" name=""/>
          <p:cNvSpPr txBox="1"/>
          <p:nvPr/>
        </p:nvSpPr>
        <p:spPr>
          <a:xfrm>
            <a:off x="580680" y="2180880"/>
            <a:ext cx="11030040" cy="3678120"/>
          </a:xfrm>
          <a:prstGeom prst="rect">
            <a:avLst/>
          </a:prstGeom>
          <a:noFill/>
          <a:ln w="0">
            <a:noFill/>
          </a:ln>
        </p:spPr>
        <p:txBody>
          <a:bodyPr anchor="ctr">
            <a:normAutofit/>
          </a:bodyPr>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800" spc="-1" strike="noStrike">
                <a:solidFill>
                  <a:srgbClr val="3b3b3b"/>
                </a:solidFill>
                <a:latin typeface="Gill Sans MT"/>
              </a:rPr>
              <a:t>Oameni</a:t>
            </a:r>
            <a:endParaRPr b="0" lang="en-US" sz="2800" spc="-1" strike="noStrike">
              <a:solidFill>
                <a:srgbClr val="3d3d3d"/>
              </a:solidFill>
              <a:latin typeface="Gill Sans MT"/>
            </a:endParaRPr>
          </a:p>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b3b3b"/>
                </a:solidFill>
                <a:latin typeface="Gill Sans MT"/>
              </a:rPr>
              <a:t>„</a:t>
            </a:r>
            <a:r>
              <a:rPr b="0" i="1" lang="en-US" sz="2800" spc="-1" strike="noStrike">
                <a:solidFill>
                  <a:srgbClr val="3b3b3b"/>
                </a:solidFill>
                <a:latin typeface="Gill Sans MT"/>
              </a:rPr>
              <a:t>Suntem hotărâți să punem capăt sărăciei și foametei, în toate formele și dimensiunile lor, și să asigurăm că toate ființele umane își pot îndeplini potențialul în demnitate și egalitate și într-un mediu sănătos”</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5" name=""/>
          <p:cNvSpPr txBox="1"/>
          <p:nvPr/>
        </p:nvSpPr>
        <p:spPr>
          <a:xfrm>
            <a:off x="580680" y="2180880"/>
            <a:ext cx="1103004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400" spc="-1" strike="noStrike">
                <a:solidFill>
                  <a:srgbClr val="555555"/>
                </a:solidFill>
                <a:latin typeface="Open Sans"/>
              </a:rPr>
              <a:t>Planetă</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400" spc="-1" strike="noStrike">
                <a:solidFill>
                  <a:srgbClr val="555555"/>
                </a:solidFill>
                <a:latin typeface="Open Sans"/>
              </a:rPr>
              <a:t>„</a:t>
            </a:r>
            <a:r>
              <a:rPr b="0" i="1" lang="ro-RO" sz="2400" spc="-1" strike="noStrike">
                <a:solidFill>
                  <a:srgbClr val="555555"/>
                </a:solidFill>
                <a:latin typeface="Open Sans"/>
              </a:rPr>
              <a:t>Suntem hotărâți să protejăm planeta de degradare, inclusiv prin consum și producție durabile, gestionând durabil resursele sale naturale și luând măsuri urgente privind schimbările climatice, astfel încât să aceasta să poată susține nevoile generațiilor   prezente și viitoar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800" spc="-1" strike="noStrike">
                <a:solidFill>
                  <a:srgbClr val="555555"/>
                </a:solidFill>
                <a:latin typeface="Open Sans"/>
              </a:rPr>
              <a:t>Prosperitate</a:t>
            </a:r>
            <a:endParaRPr b="0" lang="en-US" sz="2800" spc="-1" strike="noStrike">
              <a:solidFill>
                <a:srgbClr val="3d3d3d"/>
              </a:solidFill>
              <a:latin typeface="Gill Sans MT"/>
            </a:endParaRPr>
          </a:p>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0" lang="ro-RO" sz="2800" spc="-1" strike="noStrike">
                <a:solidFill>
                  <a:srgbClr val="555555"/>
                </a:solidFill>
                <a:latin typeface="Open Sans"/>
              </a:rPr>
              <a:t>„</a:t>
            </a:r>
            <a:r>
              <a:rPr b="0" i="1" lang="ro-RO" sz="2800" spc="-1" strike="noStrike">
                <a:solidFill>
                  <a:srgbClr val="555555"/>
                </a:solidFill>
                <a:latin typeface="inherit"/>
              </a:rPr>
              <a:t>Suntem hotărâți să ne asigurăm că toate ființele umane se pot bucura de vieți prospere și că progresul economic, social și</a:t>
            </a:r>
            <a:r>
              <a:rPr b="0" lang="ro-RO" sz="2800" spc="-1" strike="noStrike">
                <a:solidFill>
                  <a:srgbClr val="555555"/>
                </a:solidFill>
                <a:latin typeface="Open Sans"/>
              </a:rPr>
              <a:t> </a:t>
            </a:r>
            <a:r>
              <a:rPr b="0" i="1" lang="ro-RO" sz="2800" spc="-1" strike="noStrike">
                <a:solidFill>
                  <a:srgbClr val="555555"/>
                </a:solidFill>
                <a:latin typeface="inherit"/>
              </a:rPr>
              <a:t>tehnologic are loc în armonie cu natura.”</a:t>
            </a:r>
            <a:endParaRPr b="0" lang="en-US" sz="2800" spc="-1" strike="noStrike">
              <a:solidFill>
                <a:srgbClr val="3d3d3d"/>
              </a:solidFill>
              <a:latin typeface="Gill Sans MT"/>
            </a:endParaRPr>
          </a:p>
          <a:p>
            <a:pPr>
              <a:lnSpc>
                <a:spcPct val="10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3b3b3b"/>
                </a:solidFill>
                <a:latin typeface="Open Sans"/>
              </a:rPr>
              <a:t> </a:t>
            </a:r>
            <a:endParaRPr b="0" lang="en-US" sz="1400" spc="-1" strike="noStrike">
              <a:solidFill>
                <a:srgbClr val="3d3d3d"/>
              </a:solidFill>
              <a:latin typeface="Gill Sans MT"/>
            </a:endParaRPr>
          </a:p>
          <a:p>
            <a:pPr>
              <a:lnSpc>
                <a:spcPct val="100000"/>
              </a:lnSpc>
              <a:spcBef>
                <a:spcPts val="34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cademia Academia</cp:lastModifiedBy>
  <dcterms:modified xsi:type="dcterms:W3CDTF">2021-09-23T17:28:02Z</dcterms:modified>
  <cp:revision>40</cp:revision>
  <dc:subject/>
  <dc:title>Naslov prezentacije</dc:title>
</cp:coreProperties>
</file>