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D64B-BAAF-4721-AE95-4878FEB942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DC68-94EF-4937-B709-367AB97577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D4F5-1299-42CA-BC0B-CCE21D492D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5E1-88BB-4AE1-9AC9-94A8BC59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0AC-E7E6-4332-B60F-2B62A0AB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BCD-6E7E-46B7-8128-014C521B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967-5B6F-45A1-B0C9-B42494F1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6A3-53E9-4E6E-80C6-8580E249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C96-CEFB-4C8D-AF01-965D919E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ECC-E367-4FA1-BE0F-E8B31C85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B77-EE8A-46C2-B987-1C9034F1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F0A-C385-4EFA-B8FB-B7401AE7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9DA-C72E-43D4-A3CE-CF35C554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076-176A-4095-9E52-2848E080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4D9-6B0D-4271-BBFC-EE15E99F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0A6F-D4E8-417A-9DF1-08ABFFC1A427}" type="slidenum">
              <a:rPr b="0" lang="ru-RU" sz="9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4920" y="1628640"/>
            <a:ext cx="85597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Calibri"/>
              </a:rPr>
              <a:t>Planul de afaceri privind activitate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Calibri"/>
              </a:rPr>
              <a:t>unei afaceri soci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lena Bordia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20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ompani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Aceasă zonă  este despre cultura organizatională, despre oamenii care dezvoltă afacerea  și tot ceea ce e special în afacer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100" spc="-1" strike="noStrike">
                <a:solidFill>
                  <a:srgbClr val="000000"/>
                </a:solidFill>
                <a:latin typeface="Calibri"/>
              </a:rPr>
              <a:t>Care e misiunea, viziunea, valorile, organigram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Cine sunt angajașii CHEIE, care sunt performanțele lor, cine face parte din echipa de decizie, ce consultanți avem, mentori, dacă îi ave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3800" spc="-1" strike="noStrike">
                <a:solidFill>
                  <a:srgbClr val="c00000"/>
                </a:solidFill>
                <a:latin typeface="Calibri Light"/>
              </a:rPr>
              <a:t>PLANUL FINANCIAR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Zona estimărilor esenția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Trebuie sa fie la LEU, 100% acurat si foarte clar setat. Fiecare cheltuială, fixă, variabilă,  linie de veni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100" spc="-1" strike="noStrike">
                <a:solidFill>
                  <a:srgbClr val="000000"/>
                </a:solidFill>
                <a:latin typeface="Calibri"/>
              </a:rPr>
              <a:t>Tot aici se setează planul de investiții, sursele - pâna la sustenabilitate sau atingerea pragului de rentabilitat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Adică, de câți bani ai nevoie, în ce îi vei investi și mai ales pîna când vei avea nevoie, ca sa ajungă săînregistreze profit. Tot aici si Prognoza de venituri și cheltuieli - pe primii 3 ani de zile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Anexe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ici punem tot ce e relevant și poate conține planul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Studii de piata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Rezultate focus grup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Rapoarte industr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nalize competit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Cv-urile angajaților che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orice e de folos pentru ca un investitor să poată să vadă că ai un plan de afacere serio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646200"/>
            <a:ext cx="7793280" cy="62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PAGINA DE TITLU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</a:rPr>
              <a:t>serveşte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ept copertă pentru planul de afaceri şi conţine informaţii privind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umirea complectă a întreprinderi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ul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tocmirii planului de afac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le şi prenume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reprenorului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ărul de telefon, fax, e-mail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ul întocmirii planului de afaceri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trimitere la confidenţialitatea informaţi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79292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Cuprinsu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640" y="201780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compartimentele de bază ale planului de afaceri cu indicarea paginilor la care se află acestea, pentru a uşura găsirea informaţiei necesare de către persoana cointeresat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6"/>
          <p:cNvSpPr/>
          <p:nvPr/>
        </p:nvSpPr>
        <p:spPr>
          <a:xfrm>
            <a:off x="250920" y="260280"/>
            <a:ext cx="43923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umaru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Descrierea ide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1 Descrierea întreprinderii şi activităţii desfasu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2 Scopul şi obiectivele aface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3 Analiza SW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4  Strategia afaceri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5 Descrierea produsului /serviciulu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Planul de marke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1 Piaţa şi consumato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2 Concurenţ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3 Plasamentul şi distribui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4 Politica de pre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5 Promova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4643280" y="189000"/>
            <a:ext cx="403416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 Planul operaț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1 Descrierea procesului tehno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2 Schema fizic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3 Necesarul de spațiu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echipament, consumabile şi costurile acesto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4 Furnizo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Necesarul de resurse um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1 Structura organizatoric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2Necesarul de resurse umane şi remunerarea l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 .Planul de finanț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1 Cheltuieli de lansare a aface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2 Bilanțul contab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3 Prognoza veniturilor şi a cheltuieli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4 Raportul privind rezultatul financi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11080" y="404640"/>
            <a:ext cx="7648560" cy="6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Sumar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34560" y="981000"/>
            <a:ext cx="78138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urtă descriere a firmei (denumire, adresa juridică, fondatori, capiral social, bunuri la moment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urtă descriere a afacerii (de unde a venit ideea, situaţia actuală, produsele sau serviciile oferite, piaţa pe care se găsesc consumatorii, personalul, factorii cheie de succes, previziuni ale veniturilor, cheltuielilor, profitului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sursele financiare necesare pentru realizare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ului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ma dorită pentru finanţare, scopul şi modul de utilizare, capitalul social existen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zultatele economico-financiare aştepta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600000" y="4641840"/>
            <a:ext cx="55436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563c1"/>
                </a:solidFill>
                <a:latin typeface="Times New Roman"/>
              </a:rPr>
              <a:t>CI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</a:t>
            </a:r>
            <a:r>
              <a:rPr b="1" lang="ro-RO" sz="1800" spc="-1" strike="noStrike">
                <a:solidFill>
                  <a:srgbClr val="44546a"/>
                </a:solidFill>
                <a:latin typeface="Times New Roman"/>
              </a:rPr>
              <a:t>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           </a:t>
            </a:r>
            <a:r>
              <a:rPr b="1" lang="ro-RO" sz="1800" spc="-1" strike="noStrike">
                <a:solidFill>
                  <a:srgbClr val="0563c1"/>
                </a:solidFill>
                <a:latin typeface="Times New Roman"/>
              </a:rPr>
              <a:t>CU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f88608"/>
                </a:solidFill>
                <a:latin typeface="Times New Roman"/>
              </a:rPr>
              <a:t>                                                   </a:t>
            </a:r>
            <a:r>
              <a:rPr b="1" lang="ro-RO" sz="1800" spc="-1" strike="noStrike">
                <a:solidFill>
                  <a:srgbClr val="44546a"/>
                </a:solidFill>
                <a:latin typeface="Times New Roman"/>
              </a:rPr>
              <a:t>CÂ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BD04896_"/>
          <p:cNvPicPr/>
          <p:nvPr/>
        </p:nvPicPr>
        <p:blipFill>
          <a:blip r:embed="rId1"/>
          <a:stretch/>
        </p:blipFill>
        <p:spPr>
          <a:xfrm>
            <a:off x="7311960" y="5554800"/>
            <a:ext cx="1192320" cy="116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IN00222_"/>
          <p:cNvPicPr/>
          <p:nvPr/>
        </p:nvPicPr>
        <p:blipFill>
          <a:blip r:embed="rId2"/>
          <a:stretch/>
        </p:blipFill>
        <p:spPr>
          <a:xfrm>
            <a:off x="2629080" y="4195800"/>
            <a:ext cx="920520" cy="93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BD05610_"/>
          <p:cNvPicPr/>
          <p:nvPr/>
        </p:nvPicPr>
        <p:blipFill>
          <a:blip r:embed="rId3"/>
          <a:stretch/>
        </p:blipFill>
        <p:spPr>
          <a:xfrm>
            <a:off x="5310360" y="4205160"/>
            <a:ext cx="1028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847548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Modulul 1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DESCRIEREA AFACERI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1424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Descrierea ideii de afacere/aface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1 Descrierea întreprinderii şi activităţii desfăsurate (domeniul de activitate, cum a evoluat acest domeniu, forma organizatorico-juridică aleas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2 Scopul şi obiectivele aface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3 Analiza SWO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4  Strategia afacerii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5 Descrierea produsului /serviciului (toată gama de servicii sau produse, caracteristici, beneficii pentru consummato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etc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DESCRIEREA AFACERI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560"/>
            <a:ext cx="8336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Obiectivul acestui capitol este de a prezenta descriptiv afacerea în general, identificând activitățile care vor genera venituri în cadrul întreprinderi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este sau ce va fi businessul tău? Tipul de business: comerţ, producere sau servici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Modelul businessului tău: eşti singur proprietar, ai partener/ri sau cooperativă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Starea businessului: este vorba de un business nou sau este vorba de o extindere, sau de o achiziţie a unui business activ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e piaţă îţi propui să deserveşti; care este volumul ei şi care ar fi segmentul de piaţă pe care ai dori să-l acoper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Va putea compania ta să deservească piaţa mai bine decât concurenţii? De ce va fi profitabil businessul tă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um vei obține produsul? Descrie paşii necesari pentru a produce produsul tău şi pentru a-l duce pe piaţă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De ce echipă managerială şi alt personal dispui şi care este necesarul pentru a realiza afacerea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ând vei porni (sau ai pornit) afacerea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De ce un împrumut sau altă investiţie din partea cuiva (în cazul când este relevant) va face businessul mai profitabil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Calibri Light"/>
              </a:rPr>
              <a:t>Analiza Planurilor de afacere</a:t>
            </a:r>
            <a:br>
              <a:rPr sz="3500"/>
            </a:br>
            <a:r>
              <a:rPr b="1" lang="ro-RO" sz="3500" spc="-1" strike="noStrike">
                <a:solidFill>
                  <a:srgbClr val="c00000"/>
                </a:solidFill>
                <a:latin typeface="Calibri Light"/>
              </a:rPr>
              <a:t>Studiu de caz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8200" y="2041560"/>
            <a:ext cx="38862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implu/ u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ș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or de elaborat, realizat, scr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28880" y="2112480"/>
            <a:ext cx="38862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Dificil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greu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de elaborat, realizat, scr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838080" y="3182760"/>
            <a:ext cx="788688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  <a:ea typeface="Arial"/>
              </a:rPr>
              <a:t>Timp de 10 min. identificați aspectele menționate în chenarele de mai sus.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  <a:ea typeface="Arial"/>
              </a:rPr>
              <a:t>Argumentați, pe cât posibil, răspunsuril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o-RO" sz="4000" spc="-1" strike="noStrike">
                <a:solidFill>
                  <a:srgbClr val="c00000"/>
                </a:solidFill>
                <a:latin typeface="Times New Roman"/>
              </a:rPr>
              <a:t>Scopul                        Obiectivel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99840" y="1872720"/>
            <a:ext cx="38718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Formularea scopului poate fi legat d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Diversificarea gamei de servic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Extinderea ariei geografi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Creșterea cifrei de afacer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 profi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Modernizarea procesului tehnolog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Atingerea și menținerea unui anumit nivel din cota de piaț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214960" y="1873080"/>
            <a:ext cx="3102120" cy="37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oncre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Orientate în tim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ăsura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Rea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/realiza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Flexi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De ce este importanta Analiza SWOT pentru afacerea ta | Coface ..."/>
          <p:cNvPicPr/>
          <p:nvPr/>
        </p:nvPicPr>
        <p:blipFill>
          <a:blip r:embed="rId1"/>
          <a:stretch/>
        </p:blipFill>
        <p:spPr>
          <a:xfrm>
            <a:off x="179280" y="115920"/>
            <a:ext cx="8964720" cy="554364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250920" y="5445000"/>
            <a:ext cx="8713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500" spc="-1" strike="noStrike">
                <a:solidFill>
                  <a:srgbClr val="c00000"/>
                </a:solidFill>
                <a:latin typeface="Calibri Light"/>
                <a:ea typeface="Arial"/>
              </a:rPr>
              <a:t>Instrument managerial pentru eficientizarea activității afacerii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Times New Roman"/>
              </a:rPr>
              <a:t>De ce este necesară </a:t>
            </a:r>
            <a:br>
              <a:rPr sz="3300"/>
            </a:br>
            <a:r>
              <a:rPr b="1" lang="ro-RO" sz="3300" spc="-1" strike="noStrike">
                <a:solidFill>
                  <a:srgbClr val="c00000"/>
                </a:solidFill>
                <a:latin typeface="Times New Roman"/>
              </a:rPr>
              <a:t>                 analiza SWOT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844640"/>
            <a:ext cx="6132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contribui la analiza situaţiei existent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ajuta la definirea strategie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servi ca sursă de informaţie  la analiza riscuril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adăuga o valoare considerabilă planului DVS.,pentru că va prezenta informația de asamblu despre afac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PE01622_"/>
          <p:cNvPicPr/>
          <p:nvPr/>
        </p:nvPicPr>
        <p:blipFill>
          <a:blip r:embed="rId1"/>
          <a:stretch/>
        </p:blipFill>
        <p:spPr>
          <a:xfrm>
            <a:off x="6400800" y="1905120"/>
            <a:ext cx="2743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Domenii pentru identificarea </a:t>
            </a: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atuutilor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 </a:t>
            </a:r>
            <a:r>
              <a:rPr b="1" lang="ro-RO" sz="3200" spc="-1" strike="noStrike">
                <a:solidFill>
                  <a:srgbClr val="0563c1"/>
                </a:solidFill>
                <a:latin typeface="Times New Roman"/>
              </a:rPr>
              <a:t>slă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biciunilor</a:t>
            </a:r>
            <a:r>
              <a:rPr b="0" lang="ro-RO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9640" y="1268280"/>
          <a:ext cx="8058240" cy="5631120"/>
        </p:xfrm>
        <a:graphic>
          <a:graphicData uri="http://schemas.openxmlformats.org/drawingml/2006/table">
            <a:tbl>
              <a:tblPr/>
              <a:tblGrid>
                <a:gridCol w="1839960"/>
                <a:gridCol w="3191040"/>
                <a:gridCol w="302724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44546a"/>
                          </a:solidFill>
                          <a:latin typeface="Times New Roman"/>
                        </a:rPr>
                        <a:t>Domeniul de activitate a întreprinder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6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o-RO" sz="3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Atuur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6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Slăbiciun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roducţ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Calitatea înaltă a produ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enţă proprie de fabricaţ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Uzura fizică şi morală a echipamentul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Linie de produs limitat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enţă în domen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Personal califi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Înalt nivel de fluctuaţie a cadrelo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Marke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 Servicii post vânz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Clienţi fcare periodic apelează la serviciile/produsele compani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ţuri redus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 Promovarea slab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 Stocuri mari de produse fin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Finanţ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Controlul financiar rigu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54f72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hidităț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54f72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ibuție prop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Insuficienţa resurselor financi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294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100" spc="-1" strike="noStrike">
                <a:solidFill>
                  <a:srgbClr val="000000"/>
                </a:solidFill>
                <a:latin typeface="Times New Roman"/>
              </a:rPr>
              <a:t>Domenii în care pot apărea </a:t>
            </a:r>
            <a:r>
              <a:rPr b="1" lang="ro-RO" sz="3100" spc="-1" strike="noStrike">
                <a:solidFill>
                  <a:srgbClr val="0563c1"/>
                </a:solidFill>
                <a:latin typeface="Times New Roman"/>
              </a:rPr>
              <a:t>oportunităţi</a:t>
            </a:r>
            <a:r>
              <a:rPr b="1" lang="ro-RO" sz="31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ro-RO" sz="3100" spc="-1" strike="noStrike">
                <a:solidFill>
                  <a:srgbClr val="0563c1"/>
                </a:solidFill>
                <a:latin typeface="Times New Roman"/>
              </a:rPr>
              <a:t>pericole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1197000"/>
          <a:ext cx="8547120" cy="5662440"/>
        </p:xfrm>
        <a:graphic>
          <a:graphicData uri="http://schemas.openxmlformats.org/drawingml/2006/table">
            <a:tbl>
              <a:tblPr/>
              <a:tblGrid>
                <a:gridCol w="2257560"/>
                <a:gridCol w="3386160"/>
                <a:gridCol w="2903400"/>
              </a:tblGrid>
              <a:tr h="74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Domen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PORTUNI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PERI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olitici guvernamet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Oferirea înlesnirilor fiscale ÎMM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Avantaje acordate companiilor concu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iaţ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iețe noi, pe care se poate intra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Creşterea rapidă a pieţei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Existenţa unei concurenţe </a:t>
                      </a:r>
                      <a:r>
                        <a:rPr b="0" lang="en-US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neloi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arteneriate durabile – BtoB, Bt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Creşterea costurilor la ener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Financi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Stabilitatea monedei naţiona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rograme de susținere a tinerilor fermi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Dobânda bancară înaltă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Domenii în care pot apărea </a:t>
            </a:r>
            <a:r>
              <a:rPr b="1" lang="ro-RO" sz="3300" spc="-1" strike="noStrike">
                <a:solidFill>
                  <a:srgbClr val="0563c1"/>
                </a:solidFill>
                <a:latin typeface="Times New Roman"/>
              </a:rPr>
              <a:t>oportunităţi</a:t>
            </a: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ro-RO" sz="3300" spc="-1" strike="noStrike">
                <a:solidFill>
                  <a:srgbClr val="0563c1"/>
                </a:solidFill>
                <a:latin typeface="Times New Roman"/>
              </a:rPr>
              <a:t>perico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2286000"/>
          <a:ext cx="8305560" cy="3718080"/>
        </p:xfrm>
        <a:graphic>
          <a:graphicData uri="http://schemas.openxmlformats.org/drawingml/2006/table">
            <a:tbl>
              <a:tblPr/>
              <a:tblGrid>
                <a:gridCol w="2209680"/>
                <a:gridCol w="3641760"/>
                <a:gridCol w="2454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44546a"/>
                          </a:solidFill>
                          <a:latin typeface="Times New Roman"/>
                        </a:rPr>
                        <a:t>Domen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PORTUNI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PERI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Social</a:t>
                      </a:r>
                      <a:r>
                        <a:rPr b="1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Schimbarea nevoilor şi gusturilor consumatorilor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Reducerea veniturilor populaţiei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Tehnolo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Apariţia  unor noi tehnologii informaţionale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Apariţia unor produse substituibile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Demograf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ersonal calificat disponibil pe plan lo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Rata joasă a natalităţ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84360" y="547560"/>
          <a:ext cx="8208720" cy="5762880"/>
        </p:xfrm>
        <a:graphic>
          <a:graphicData uri="http://schemas.openxmlformats.org/drawingml/2006/table">
            <a:tbl>
              <a:tblPr/>
              <a:tblGrid>
                <a:gridCol w="2763720"/>
                <a:gridCol w="1222200"/>
                <a:gridCol w="1446480"/>
                <a:gridCol w="1446120"/>
                <a:gridCol w="1330200"/>
              </a:tblGrid>
              <a:tr h="362160"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e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1800"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447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eriența în dome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0488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ma de servicii/produ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39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iaț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43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blicitate și comunicare cu clienț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21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rse um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560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rse materi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39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erie prim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928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tare tehnic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4520" y="861480"/>
            <a:ext cx="854856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rategia afacerii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31640" y="1915920"/>
            <a:ext cx="684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 ce metode vor fi minimalizate punctele slabe și riscur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m diminuăm un ris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area opțiunilor exis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rea măsuri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3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Strategia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</a:rPr>
              <a:t> de marketing</a:t>
            </a: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 2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.1 </a:t>
            </a: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Piaţa şi consumatorii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233360"/>
            <a:ext cx="87138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aracteristicile pieţei pe care activează întreprinderea, structura  pieţe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Analiza necesităţilor consumatoril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p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estare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e problemă soluționează afacerea dvs.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A cui problemă soluționăm prin produsul nostr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um identificăm consumatorii noştri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u ajutorul test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ării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Unde se găsesc e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ât de des cumpără ei produsele sau serviciile noast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are este plus valoarea de care beneciază ei prin procurarea serviciilor/produselor noast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algn="just">
              <a:lnSpc>
                <a:spcPct val="90000"/>
              </a:lnSpc>
              <a:spcBef>
                <a:spcPts val="374"/>
              </a:spcBef>
              <a:buClr>
                <a:srgbClr val="c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o-RO" sz="2500" spc="-1" strike="noStrike">
                <a:solidFill>
                  <a:srgbClr val="c00000"/>
                </a:solidFill>
                <a:latin typeface="Times New Roman"/>
              </a:rPr>
              <a:t>Identificarea grupului ţintă/Avatarul afaceri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Segmentarea pieţei. Care este segmentul pe care intenţionăm să-l ocupăm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3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</a:rPr>
              <a:t>MVP – Produsul minim viabil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8560" y="2060640"/>
            <a:ext cx="78868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Minim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- varianta rudimentară (care se află la începutul dezvoltării sal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Viabil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- va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dează necesitățile consumatorulu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Produs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– tangibil, poți să îl testez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 Light"/>
              </a:rPr>
              <a:t>Analiza Planurilor de afacere</a:t>
            </a:r>
            <a:br>
              <a:rPr sz="3200"/>
            </a:br>
            <a:r>
              <a:rPr b="1" lang="ro-RO" sz="3200" spc="-1" strike="noStrike">
                <a:solidFill>
                  <a:srgbClr val="c00000"/>
                </a:solidFill>
                <a:latin typeface="Calibri Light"/>
              </a:rPr>
              <a:t>Studiu de caz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1825200"/>
            <a:ext cx="8120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numerați cel puțin 5 așteptări de la acest program de formare, referindu-vă la următoarele aspec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Structura P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Temele care le doriți să fie a bordate mai mult în discuții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Modulele unui plan de afac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</a:rPr>
              <a:t>Despre MVP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119700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Obiectivele M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testeze practic ipotez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optimizeze timpu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construiască credibilitate (voi face – am făcu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Avantajele M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Costă mai puț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Riști cu mai puț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Elementele de baz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Funcționabilitate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 – trebuie să aibă niște caracteristici clare și evidente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Uzabilitate – 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simplu de folosit</a:t>
            </a: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Design 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– atractivitate pentru client (ambalaj, atractivitate estetic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e obții din testare prin MVP?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196640"/>
            <a:ext cx="788688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Identifici segmentul care răspunde pozitiv și care este atras organic de produsul tău (</a:t>
            </a:r>
            <a:r>
              <a:rPr b="1" i="1" lang="ro-RO" sz="2100" spc="-1" strike="noStrike">
                <a:solidFill>
                  <a:srgbClr val="000000"/>
                </a:solidFill>
                <a:latin typeface="Calibri"/>
              </a:rPr>
              <a:t>te-ai gîndit la un profil al consumatorului, dar.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..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Informație calitativă și relevantă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Pe baza acestei informații poți crea un formular pentru toți cei care devin clienții tăi , îi rogi să îți răspundă și la niște întrebăr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Îți dai seama dacă ai greșit publicul țint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Clarificarea unui Avatar de client, pe care il construiești prin experiență pe care ai obținut-o cu ajutorul MVP-ulu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Beneficiile percepute față de beneficiile oferite, ce a contat pentru client, ce reprezintă pentru el valoarea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Poziționarea de preț potrivit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Canalele de promovare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Canalele de distribuție (cum îi va fi mai ușor să achiziționeze mai ușor produsl tău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Instruirea/educarea consumatorului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600" spc="-1" strike="noStrike">
                <a:solidFill>
                  <a:srgbClr val="c00000"/>
                </a:solidFill>
                <a:latin typeface="Calibri Light"/>
              </a:rPr>
              <a:t>Si?...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8200" y="13410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MVP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(testarea )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28880" y="13410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MMP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(Minim Marketable Product)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Cum promovez și prin ce canale distribui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1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Times New Roman"/>
              </a:rPr>
              <a:t>2.2 </a:t>
            </a:r>
            <a:r>
              <a:rPr b="1" lang="ro-RO" sz="3100" spc="-1" strike="noStrike">
                <a:solidFill>
                  <a:srgbClr val="0000ff"/>
                </a:solidFill>
                <a:latin typeface="Times New Roman"/>
              </a:rPr>
              <a:t>Concurența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907560"/>
            <a:ext cx="81579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Cine sunt concurenţii Dvs., de regulă 3-5 întreprind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Caracteristica produselor concurenţilo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Atuurile şi slăbiciunile concurenţ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Analiza comparativă (descrierea situației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ţi afacerea Dvs. şi afacerile concurenţilor Dvs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5-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a mai înaltă not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 –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a mai joasă not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ţi sincer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ţă de sine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47640" y="2801880"/>
          <a:ext cx="6193080" cy="3900600"/>
        </p:xfrm>
        <a:graphic>
          <a:graphicData uri="http://schemas.openxmlformats.org/drawingml/2006/table">
            <a:tbl>
              <a:tblPr/>
              <a:tblGrid>
                <a:gridCol w="1548000"/>
                <a:gridCol w="1547640"/>
                <a:gridCol w="1549440"/>
                <a:gridCol w="1548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torii competitivităţ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acerea Dv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entul nr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entul nr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plas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litatea produsulu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/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viciu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ilitatea de a vin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ţur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echnic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676520"/>
            <a:ext cx="76276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mijloace de promovare a produsului vor fi utiliz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n-line, off-line)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care le-am identificat cu ajutorul MV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ip de reclamă  se va folos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etul de promovare (costurile pentru promovar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m vei comunica cu clienț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9600" y="90504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3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movarea afacerii</a:t>
            </a:r>
            <a:r>
              <a:rPr b="1" lang="ro-RO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anale de comunicare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ii (site-ul tău, blogu-ul personal, pagina de fb, baza de date email, vizite organice, magazine, agenți de vânzari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știgate (postări sharuite, like-uri, share-ruri, parteneriate pe termen lung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ătite (reviste, TV, radio,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ți clienții unei afaceri sunt pe canale de comunicare, ei nu sunt acasă și mă duc să le bat la uș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82360" y="549360"/>
            <a:ext cx="779292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4 </a:t>
            </a:r>
            <a:r>
              <a:rPr b="1" lang="ro-RO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amentul și distribuț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2060640"/>
            <a:ext cx="757080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de va fi amplasată afacerea, care sunt avantajele amplasării dat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xistă alte întreprinde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zona dată, inclusiv cele concurent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care sunt facilităţi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xistenţa parcărilor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BS00393_"/>
          <p:cNvPicPr/>
          <p:nvPr/>
        </p:nvPicPr>
        <p:blipFill>
          <a:blip r:embed="rId1"/>
          <a:stretch/>
        </p:blipFill>
        <p:spPr>
          <a:xfrm>
            <a:off x="6324480" y="4122720"/>
            <a:ext cx="24386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ulul 3. Planul operaţional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017440"/>
            <a:ext cx="848664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1 Descrierea procesului tehnolog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2 Schema fizic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3 Necesarul de spatiu echipament, consumabile şi costurile acestor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4 Furnizo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mage result for ce este procesul de producere al unei afaceri&quot;"/>
          <p:cNvPicPr/>
          <p:nvPr/>
        </p:nvPicPr>
        <p:blipFill>
          <a:blip r:embed="rId1"/>
          <a:stretch/>
        </p:blipFill>
        <p:spPr>
          <a:xfrm>
            <a:off x="995400" y="3789360"/>
            <a:ext cx="73216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PPT - PLANUL DE AFACERI PowerPoint Presentation, free download ...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68360" y="260280"/>
          <a:ext cx="7991280" cy="5880240"/>
        </p:xfrm>
        <a:graphic>
          <a:graphicData uri="http://schemas.openxmlformats.org/drawingml/2006/table">
            <a:tbl>
              <a:tblPr/>
              <a:tblGrid>
                <a:gridCol w="842760"/>
                <a:gridCol w="2340000"/>
                <a:gridCol w="1722600"/>
                <a:gridCol w="1582560"/>
                <a:gridCol w="1503360"/>
              </a:tblGrid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72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Necesarul de capi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16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umirea echipamentulu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.de masur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titat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ț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104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ș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a de brod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r de căl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ă de cro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ech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ină de cus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Încălz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i electric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ent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e prim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țiu 20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, l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9328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o-RO" sz="3200" spc="-1" strike="noStrike">
                <a:solidFill>
                  <a:srgbClr val="c00000"/>
                </a:solidFill>
                <a:latin typeface="Times New Roman"/>
              </a:rPr>
              <a:t>Ce reprezintă un plan de afaceri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5280" y="1341000"/>
            <a:ext cx="806436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6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     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Planul de afaceri este un document confidenţial</a:t>
            </a:r>
            <a:r>
              <a:rPr b="1" i="1" lang="en-US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în care sunt scrise obiectivele şi</a:t>
            </a:r>
            <a:r>
              <a:rPr b="1" i="1" lang="en-US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scopurile întreprinderii demonstrându-se în detalii modalităţile de realizare a acestor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re sunt etapele de întocmire a unui plan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de afacer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ol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area informaţie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minarea tipului planulu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ilirea structurii planulu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Împărţirea responsabilităţi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ce informaţi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er, extern)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m nevoie pentru a </a:t>
            </a:r>
            <a:r>
              <a:rPr b="1" lang="ro-RO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tocmi un plan de afaceri </a:t>
            </a:r>
            <a:r>
              <a:rPr b="1" lang="ro-RO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Piaţ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lienţ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oncurenţ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Procesul de producţ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apacitatea de producţ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Beneficiile PA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 Dacă obiectivele afacerii sunt CLARE, ele sunt CLARE pentru toată lume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2. Știi EXACT care sutn prioritățile și asta știi TOT TIMPU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 ȘTII EXACT cui și CE să deleg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4. Poți măsura eficența membrilor ECHIPEI ta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5. Îți poți controla CASH FLOW-U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6. Contrlezi mesajele de comunicare cu CLIENȚII tă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7. Ești ATRACTIV pentru investitor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8. Compari ușor EFORTURILE cu REZULTATE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9. Știi ca capătul unui an financiar ce MERGE și ce NU MERG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0. În baza planului de afaceri pot trasa noi OBIECTIVE penrtu anul următo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1. Cu timpul devii un EXPERT, care poate veni cu consultanță sau suport pentru alți antreprenori la început de dru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6 zone principale ale unui PA</a:t>
            </a:r>
            <a:br>
              <a:rPr sz="3800"/>
            </a:b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1. Sumarul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Picture 2" descr="How to Write a Summary Essay | AcademicHelp.net"/>
          <p:cNvPicPr/>
          <p:nvPr/>
        </p:nvPicPr>
        <p:blipFill>
          <a:blip r:embed="rId1"/>
          <a:stretch/>
        </p:blipFill>
        <p:spPr>
          <a:xfrm>
            <a:off x="2195640" y="1957320"/>
            <a:ext cx="55450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2. Oportunitate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Picture 2" descr="The Multi-Cloud Opportunity and Challenge -"/>
          <p:cNvPicPr/>
          <p:nvPr/>
        </p:nvPicPr>
        <p:blipFill>
          <a:blip r:embed="rId1"/>
          <a:stretch/>
        </p:blipFill>
        <p:spPr>
          <a:xfrm>
            <a:off x="628560" y="1946160"/>
            <a:ext cx="78868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Elemente ale oportunității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1052640"/>
            <a:ext cx="8351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problemă rezolvă produsul/serviciul tău în piața pe care te prezinț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are este clientul tău țintă și care este rata de adopțti sau cota de piață spre care tinz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are este potențialul produsului tău în piaț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are este diferențirea ta fașă de competiția existent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va trebi să faci/facă echipa ta pentru a cuceri piața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c00000"/>
                </a:solidFill>
                <a:latin typeface="Calibri"/>
              </a:rPr>
              <a:t>Dacă clarifici aceste aspecte, spune că afacere ta capătă formă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Ecxecuți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MVP (produsul minim valabil - </a:t>
            </a: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Să testăm prototipul, să avem feedback de la clienți si să analizăm satisfacția clienților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Planul de v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nzîr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Plan de marke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Identitatea Brandulu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Planul operațion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Indicatorii urmăriț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ceastă zonă îți permite să vezi dacă produsul tău are relevanță în viața clientulu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06:46:29Z</dcterms:created>
  <dc:creator>Station2</dc:creator>
  <dc:description/>
  <dc:language>en-US</dc:language>
  <cp:lastModifiedBy>User</cp:lastModifiedBy>
  <cp:lastPrinted>2019-08-07T11:47:17Z</cp:lastPrinted>
  <dcterms:modified xsi:type="dcterms:W3CDTF">2021-09-23T11:16:05Z</dcterms:modified>
  <cp:revision>125</cp:revision>
  <dc:subject/>
  <dc:title>PLANIFICAREA AFACERII</dc:title>
</cp:coreProperties>
</file>