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3.xml.rels" ContentType="application/vnd.openxmlformats-package.relationships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6.jpeg" ContentType="image/jpeg"/>
  <Override PartName="/ppt/media/image7.wmf" ContentType="image/x-wmf"/>
  <Override PartName="/ppt/media/image8.wmf" ContentType="image/x-wmf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35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145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01440" y="739440"/>
            <a:ext cx="4933800" cy="3700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4640" y="4686120"/>
            <a:ext cx="5386320" cy="44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37080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14560" y="937080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6B78B-99EA-4AA5-ABC1-34BABEAACE9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E3BFD-B047-46DF-9C35-9A7F0EC5AE6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74640" y="4686120"/>
            <a:ext cx="538632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Номер слайда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48D21-5C76-4716-A5EE-4AAF0F458FE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39F85-A404-4BBD-B473-A76047B89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359C1-0698-4F76-9134-E9194A2E6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D42BD-C378-476F-8859-86DF77652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B31A1-A87A-42A8-8359-02033A673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76500-07C1-4949-B938-44C6C4DF9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6CA11-9628-4E56-9B5E-1D729BEC2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B75AE-3AA3-4235-B0D7-986BF8BD0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B93C7-769A-49F3-9AB9-EB0582ED4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CAF81-E093-4360-8E1C-DE621304D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82567-F9DE-4629-B8B1-EC6F08D90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E7E8A-1618-42C6-A11C-30F5C0A33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BAC67-FC4C-4C93-B627-5A603F3D0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E12C8-B7A5-490F-A933-D615E5A4FD94}" type="slidenum">
              <a:rPr b="0" lang="ru-RU" sz="9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394920" y="1628640"/>
            <a:ext cx="8559720" cy="28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</a:rPr>
              <a:t>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it-IT" sz="4000" spc="-1" strike="noStrike">
                <a:solidFill>
                  <a:srgbClr val="c00000"/>
                </a:solidFill>
                <a:latin typeface="Calibri"/>
              </a:rPr>
              <a:t>Planul de afaceri privind activitate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it-IT" sz="4000" spc="-1" strike="noStrike">
                <a:solidFill>
                  <a:srgbClr val="c00000"/>
                </a:solidFill>
                <a:latin typeface="Calibri"/>
              </a:rPr>
              <a:t>unei afaceri social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</a:rPr>
              <a:t>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Elena Bordian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202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o-RO" sz="3800" spc="-1" strike="noStrike">
                <a:solidFill>
                  <a:srgbClr val="c00000"/>
                </a:solidFill>
                <a:latin typeface="Calibri Light"/>
              </a:rPr>
              <a:t>Compania </a:t>
            </a:r>
            <a:endParaRPr b="0" lang="en-US" sz="3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MD" sz="2100" spc="-1" strike="noStrike">
                <a:solidFill>
                  <a:srgbClr val="000000"/>
                </a:solidFill>
                <a:latin typeface="Calibri"/>
              </a:rPr>
              <a:t>Aceasă zonă  este despre cultura organizatională, despre oamenii care dezvoltă afacerea  și tot ceea ce e special în afacere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o-MD" sz="2100" spc="-1" strike="noStrike">
                <a:solidFill>
                  <a:srgbClr val="000000"/>
                </a:solidFill>
                <a:latin typeface="Calibri"/>
              </a:rPr>
              <a:t>Care e misiunea, viziunea, valorile, organigrama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MD" sz="2100" spc="-1" strike="noStrike">
                <a:solidFill>
                  <a:srgbClr val="000000"/>
                </a:solidFill>
                <a:latin typeface="Calibri"/>
              </a:rPr>
              <a:t>Cine sunt angajașii CHEIE, care sunt performanțele lor, cine face parte din echipa de decizie, ce consultanți avem, mentori, dacă îi avem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o-MD" sz="3800" spc="-1" strike="noStrike">
                <a:solidFill>
                  <a:srgbClr val="c00000"/>
                </a:solidFill>
                <a:latin typeface="Calibri Light"/>
              </a:rPr>
              <a:t>PLANUL FINANCIAR</a:t>
            </a:r>
            <a:endParaRPr b="0" lang="en-US" sz="3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MD" sz="2100" spc="-1" strike="noStrike">
                <a:solidFill>
                  <a:srgbClr val="000000"/>
                </a:solidFill>
                <a:latin typeface="Calibri"/>
              </a:rPr>
              <a:t>Zona estimărilor esențiale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MD" sz="2100" spc="-1" strike="noStrike">
                <a:solidFill>
                  <a:srgbClr val="000000"/>
                </a:solidFill>
                <a:latin typeface="Calibri"/>
              </a:rPr>
              <a:t>Trebuie sa fie la LEU, 100% acurat si foarte clar setat. Fiecare cheltuială, fixă, variabilă,  linie de venit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o-MD" sz="2100" spc="-1" strike="noStrike">
                <a:solidFill>
                  <a:srgbClr val="000000"/>
                </a:solidFill>
                <a:latin typeface="Calibri"/>
              </a:rPr>
              <a:t>Tot aici se setează planul de investiții, sursele - pâna la sustenabilitate sau atingerea pragului de rentabilitate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MD" sz="2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MD" sz="2100" spc="-1" strike="noStrike">
                <a:solidFill>
                  <a:srgbClr val="000000"/>
                </a:solidFill>
                <a:latin typeface="Calibri"/>
              </a:rPr>
              <a:t>Adică, de câți bani ai nevoie, în ce îi vei investi și mai ales pîna când vei avea nevoie, ca sa ajungă săînregistreze profit. Tot aici si Prognoza de venituri și cheltuieli - pe primii 3 ani de zile. 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o-RO" sz="3800" spc="-1" strike="noStrike">
                <a:solidFill>
                  <a:srgbClr val="c00000"/>
                </a:solidFill>
                <a:latin typeface="Calibri Light"/>
              </a:rPr>
              <a:t>Anexe </a:t>
            </a:r>
            <a:endParaRPr b="0" lang="en-US" sz="3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MD" sz="2500" spc="-1" strike="noStrike">
                <a:solidFill>
                  <a:srgbClr val="000000"/>
                </a:solidFill>
                <a:latin typeface="Calibri"/>
              </a:rPr>
              <a:t>Aici punem tot ce e relevant și poate conține planul: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MD" sz="2500" spc="-1" strike="noStrike">
                <a:solidFill>
                  <a:srgbClr val="000000"/>
                </a:solidFill>
                <a:latin typeface="Calibri"/>
              </a:rPr>
              <a:t>Studii de piata,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MD" sz="2500" spc="-1" strike="noStrike">
                <a:solidFill>
                  <a:srgbClr val="000000"/>
                </a:solidFill>
                <a:latin typeface="Calibri"/>
              </a:rPr>
              <a:t>Rezultate focus grup,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MD" sz="2500" spc="-1" strike="noStrike">
                <a:solidFill>
                  <a:srgbClr val="000000"/>
                </a:solidFill>
                <a:latin typeface="Calibri"/>
              </a:rPr>
              <a:t>Rapoarte industrie,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MD" sz="2500" spc="-1" strike="noStrike">
                <a:solidFill>
                  <a:srgbClr val="000000"/>
                </a:solidFill>
                <a:latin typeface="Calibri"/>
              </a:rPr>
              <a:t>Analize competitie,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MD" sz="2500" spc="-1" strike="noStrike">
                <a:solidFill>
                  <a:srgbClr val="000000"/>
                </a:solidFill>
                <a:latin typeface="Calibri"/>
              </a:rPr>
              <a:t>Cv-urile angajaților cheie,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MD" sz="2500" spc="-1" strike="noStrike">
                <a:solidFill>
                  <a:srgbClr val="000000"/>
                </a:solidFill>
                <a:latin typeface="Calibri"/>
              </a:rPr>
              <a:t>orice e de folos pentru ca un investitor să poată să vadă că ai un plan de afacere serio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00000" y="646200"/>
            <a:ext cx="7793280" cy="62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3300" spc="-1" strike="noStrike">
                <a:solidFill>
                  <a:srgbClr val="000000"/>
                </a:solidFill>
                <a:latin typeface="Calibri Light"/>
              </a:rPr>
              <a:t> </a:t>
            </a:r>
            <a:r>
              <a:rPr b="1" lang="ro-RO" sz="3600" spc="-1" strike="noStrike">
                <a:solidFill>
                  <a:srgbClr val="c00000"/>
                </a:solidFill>
                <a:latin typeface="Times New Roman"/>
              </a:rPr>
              <a:t>PAGINA DE TITLU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1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ro-RO" sz="2800" spc="-1" strike="noStrike">
                <a:solidFill>
                  <a:srgbClr val="000000"/>
                </a:solidFill>
                <a:latin typeface="Times New Roman"/>
              </a:rPr>
              <a:t>serveşte</a:t>
            </a:r>
            <a:r>
              <a:rPr b="0" i="1" lang="ro-RO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rept copertă pentru planul de afaceri şi conţine informaţii privind</a:t>
            </a:r>
            <a:r>
              <a:rPr b="0" i="1" lang="ro-RO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numirea complectă a întreprinderii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opul </a:t>
            </a:r>
            <a:r>
              <a:rPr b="0" lang="ro-RO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întocmirii planului de afacer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umele şi prenumel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treprenorului</a:t>
            </a:r>
            <a:r>
              <a:rPr b="0" lang="ro-RO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umărul de telefon, fax, e-mail</a:t>
            </a:r>
            <a:r>
              <a:rPr b="0" lang="ro-RO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ul întocmirii planului de afaceri</a:t>
            </a:r>
            <a:r>
              <a:rPr b="0" lang="ro-RO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Times New Roman"/>
              </a:rPr>
              <a:t>trimitere la confidenţialitatea informaţie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4000" y="475920"/>
            <a:ext cx="779292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en-US" sz="33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o-RO" sz="3600" spc="-1" strike="noStrike">
                <a:solidFill>
                  <a:srgbClr val="c00000"/>
                </a:solidFill>
                <a:latin typeface="Times New Roman"/>
              </a:rPr>
              <a:t>Cuprinsul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539640" y="2017800"/>
            <a:ext cx="7842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o-RO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lu</a:t>
            </a:r>
            <a:r>
              <a:rPr b="0" lang="ro-RO" sz="3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ro-RO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 compartimentele de bază ale planului de afaceri cu indicarea paginilor la care se află acestea, pentru a uşura găsirea informaţiei necesare de către persoana cointeresată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Прямоугольник 6"/>
          <p:cNvSpPr/>
          <p:nvPr/>
        </p:nvSpPr>
        <p:spPr>
          <a:xfrm>
            <a:off x="250920" y="260280"/>
            <a:ext cx="4392360" cy="603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Sumaru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1.Descrierea ideii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1.1 Descrierea întreprinderii şi activităţii desfasur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1.2 Scopul şi obiectivele afacerii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1.3 Analiza SWO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1.4  Strategia afacerii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1.5 Descrierea produsului /serviciului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2. Planul de market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2.1 Piaţa şi consumatorii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2.2 Concurenţii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2.3 Plasamentul şi distribuire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2.4 Politica de preț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2.5 Promovare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Прямоугольник 8"/>
          <p:cNvSpPr/>
          <p:nvPr/>
        </p:nvSpPr>
        <p:spPr>
          <a:xfrm>
            <a:off x="4643280" y="189000"/>
            <a:ext cx="4034160" cy="63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3 Planul operațion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3.1 Descrierea procesului tehnologi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3.2 Schema fizică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3.3 Necesarul de spațiu,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i="1" lang="ro-RO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echipament, consumabile şi costurile acestor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3.4 Furnizorii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4. Necesarul de resurse uman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4.1 Structura organizatorică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4.2Necesarul de resurse umane şi remunerarea lor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5 .Planul de finanțar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5.1 Cheltuieli de lansare a afacerii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5.2 Bilanțul contabi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5.3 Prognoza veniturilor şi a cheltuielil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5.4 Raportul privind rezultatul financia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2"/>
          <p:cNvSpPr/>
          <p:nvPr/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11080" y="404640"/>
            <a:ext cx="7648560" cy="6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o-RO" sz="3600" spc="-1" strike="noStrike">
                <a:solidFill>
                  <a:srgbClr val="c00000"/>
                </a:solidFill>
                <a:latin typeface="Times New Roman"/>
              </a:rPr>
              <a:t>Sumar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34560" y="981000"/>
            <a:ext cx="7813800" cy="433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38088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Scurtă descriere a firmei (denumire, adresa juridică, fondatori, capiral social, bunuri la moment)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2" marL="38088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r>
              <a:rPr b="0" lang="ro-RO" sz="1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Scurtă descriere a afacerii (de unde a venit ideea, situaţia actuală, produsele sau serviciile oferite, piaţa pe care se găsesc consumatorii, personalul, factorii cheie de succes, previziuni ale veniturilor, cheltuielilor, profitului,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2" marL="38088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r>
              <a:rPr b="0" lang="ro-RO" sz="1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Resursele financiare necesare pentru realizarea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2" marL="38088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planului;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2" marL="38088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Suma dorită pentru finanţare, scopul şi modul de utilizare, capitalul social existent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2" marL="38088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r>
              <a:rPr b="0" lang="ro-RO" sz="1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Rezultatele economico-financiare aşteptate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3600000" y="4641840"/>
            <a:ext cx="5543640" cy="21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o-RO" sz="1800" spc="-1" strike="noStrike">
                <a:solidFill>
                  <a:srgbClr val="0563c1"/>
                </a:solidFill>
                <a:latin typeface="Times New Roman"/>
              </a:rPr>
              <a:t>CINE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o-RO" sz="1800" spc="-1" strike="noStrike">
                <a:solidFill>
                  <a:srgbClr val="006633"/>
                </a:solidFill>
                <a:latin typeface="Times New Roman"/>
              </a:rPr>
              <a:t>        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o-RO" sz="1800" spc="-1" strike="noStrike">
                <a:solidFill>
                  <a:srgbClr val="006633"/>
                </a:solidFill>
                <a:latin typeface="Times New Roman"/>
              </a:rPr>
              <a:t>                 </a:t>
            </a:r>
            <a:r>
              <a:rPr b="1" lang="ro-RO" sz="1800" spc="-1" strike="noStrike">
                <a:solidFill>
                  <a:srgbClr val="44546a"/>
                </a:solidFill>
                <a:latin typeface="Times New Roman"/>
              </a:rPr>
              <a:t>CE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o-RO" sz="1800" spc="-1" strike="noStrike">
                <a:solidFill>
                  <a:srgbClr val="006633"/>
                </a:solidFill>
                <a:latin typeface="Times New Roman"/>
              </a:rPr>
              <a:t>                            </a:t>
            </a:r>
            <a:r>
              <a:rPr b="1" lang="ro-RO" sz="1800" spc="-1" strike="noStrike">
                <a:solidFill>
                  <a:srgbClr val="0563c1"/>
                </a:solidFill>
                <a:latin typeface="Times New Roman"/>
              </a:rPr>
              <a:t>CUM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o-RO" sz="1800" spc="-1" strike="noStrike">
                <a:solidFill>
                  <a:srgbClr val="006633"/>
                </a:solidFill>
                <a:latin typeface="Times New Roman"/>
              </a:rPr>
              <a:t>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o-RO" sz="1800" spc="-1" strike="noStrike">
                <a:solidFill>
                  <a:srgbClr val="f88608"/>
                </a:solidFill>
                <a:latin typeface="Times New Roman"/>
              </a:rPr>
              <a:t>                                                   </a:t>
            </a:r>
            <a:r>
              <a:rPr b="1" lang="ro-RO" sz="1800" spc="-1" strike="noStrike">
                <a:solidFill>
                  <a:srgbClr val="44546a"/>
                </a:solidFill>
                <a:latin typeface="Times New Roman"/>
              </a:rPr>
              <a:t>CÂT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7" descr="BD04896_"/>
          <p:cNvPicPr/>
          <p:nvPr/>
        </p:nvPicPr>
        <p:blipFill>
          <a:blip r:embed="rId1"/>
          <a:stretch/>
        </p:blipFill>
        <p:spPr>
          <a:xfrm>
            <a:off x="7311960" y="5554800"/>
            <a:ext cx="1192320" cy="11620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IN00222_"/>
          <p:cNvPicPr/>
          <p:nvPr/>
        </p:nvPicPr>
        <p:blipFill>
          <a:blip r:embed="rId2"/>
          <a:stretch/>
        </p:blipFill>
        <p:spPr>
          <a:xfrm>
            <a:off x="2629080" y="4195800"/>
            <a:ext cx="920520" cy="9367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9" descr="BD05610_"/>
          <p:cNvPicPr/>
          <p:nvPr/>
        </p:nvPicPr>
        <p:blipFill>
          <a:blip r:embed="rId3"/>
          <a:stretch/>
        </p:blipFill>
        <p:spPr>
          <a:xfrm>
            <a:off x="5310360" y="4205160"/>
            <a:ext cx="102852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000" y="213840"/>
            <a:ext cx="8475480" cy="69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</a:rPr>
              <a:t>Modulul 1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DESCRIEREA AFACERII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14240" y="1125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115000"/>
              </a:lnSpc>
              <a:spcBef>
                <a:spcPts val="751"/>
              </a:spcBef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o-RO" sz="2100" spc="-1" strike="noStrike">
                <a:solidFill>
                  <a:srgbClr val="000000"/>
                </a:solidFill>
                <a:latin typeface="Times New Roman"/>
                <a:ea typeface="Calibri"/>
              </a:rPr>
              <a:t>1.Descrierea ideii de afacere/afacerii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115000"/>
              </a:lnSpc>
              <a:spcBef>
                <a:spcPts val="751"/>
              </a:spcBef>
              <a:spcAft>
                <a:spcPts val="1001"/>
              </a:spcAft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100" spc="-1" strike="noStrike">
                <a:solidFill>
                  <a:srgbClr val="000000"/>
                </a:solidFill>
                <a:latin typeface="Times New Roman"/>
                <a:ea typeface="Calibri"/>
              </a:rPr>
              <a:t>1.1 Descrierea întreprinderii şi activităţii desfăsurate (domeniul de activitate, cum a evoluat acest domeniu, forma organizatorico-juridică aleasă)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115000"/>
              </a:lnSpc>
              <a:spcBef>
                <a:spcPts val="751"/>
              </a:spcBef>
              <a:spcAft>
                <a:spcPts val="1001"/>
              </a:spcAft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100" spc="-1" strike="noStrike">
                <a:solidFill>
                  <a:srgbClr val="000000"/>
                </a:solidFill>
                <a:latin typeface="Times New Roman"/>
                <a:ea typeface="Calibri"/>
              </a:rPr>
              <a:t>1.2 Scopul şi obiectivele afacerii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115000"/>
              </a:lnSpc>
              <a:spcBef>
                <a:spcPts val="751"/>
              </a:spcBef>
              <a:spcAft>
                <a:spcPts val="1001"/>
              </a:spcAft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100" spc="-1" strike="noStrike">
                <a:solidFill>
                  <a:srgbClr val="000000"/>
                </a:solidFill>
                <a:latin typeface="Times New Roman"/>
                <a:ea typeface="Calibri"/>
              </a:rPr>
              <a:t>1.3 Analiza SWO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115000"/>
              </a:lnSpc>
              <a:spcBef>
                <a:spcPts val="751"/>
              </a:spcBef>
              <a:spcAft>
                <a:spcPts val="1001"/>
              </a:spcAft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100" spc="-1" strike="noStrike">
                <a:solidFill>
                  <a:srgbClr val="000000"/>
                </a:solidFill>
                <a:latin typeface="Times New Roman"/>
                <a:ea typeface="Calibri"/>
              </a:rPr>
              <a:t>1.4  Strategia afacerii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115000"/>
              </a:lnSpc>
              <a:spcBef>
                <a:spcPts val="751"/>
              </a:spcBef>
              <a:spcAft>
                <a:spcPts val="1001"/>
              </a:spcAft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100" spc="-1" strike="noStrike">
                <a:solidFill>
                  <a:srgbClr val="000000"/>
                </a:solidFill>
                <a:latin typeface="Times New Roman"/>
                <a:ea typeface="Calibri"/>
              </a:rPr>
              <a:t>1.5 Descrierea produsului /serviciului (toată gama de servicii sau produse, caracteristici, beneficii pentru consummator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o-RO" sz="2100" spc="-1" strike="noStrike">
                <a:solidFill>
                  <a:srgbClr val="000000"/>
                </a:solidFill>
                <a:latin typeface="Times New Roman"/>
                <a:ea typeface="Calibri"/>
              </a:rPr>
              <a:t>etc.)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</a:rPr>
              <a:t>DESCRIEREA AFACERII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628560" y="1825560"/>
            <a:ext cx="8336160" cy="484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500" spc="-1" strike="noStrike">
                <a:solidFill>
                  <a:srgbClr val="000000"/>
                </a:solidFill>
                <a:latin typeface="Calibri"/>
              </a:rPr>
              <a:t>Obiectivul acestui capitol este de a prezenta descriptiv afacerea în general, identificând activitățile care vor genera venituri în cadrul întreprinderii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o-RO" sz="2500" spc="-1" strike="noStrike">
                <a:solidFill>
                  <a:srgbClr val="000000"/>
                </a:solidFill>
                <a:latin typeface="Calibri"/>
              </a:rPr>
              <a:t>Ce este sau ce va fi businessul tău? Tipul de business: comerţ, producere sau servicii?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500" spc="-1" strike="noStrike">
                <a:solidFill>
                  <a:srgbClr val="000000"/>
                </a:solidFill>
                <a:latin typeface="Calibri"/>
              </a:rPr>
              <a:t>Modelul businessului tău: eşti singur proprietar, ai partener/ri sau cooperativă?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o-RO" sz="2500" spc="-1" strike="noStrike">
                <a:solidFill>
                  <a:srgbClr val="000000"/>
                </a:solidFill>
                <a:latin typeface="Calibri"/>
              </a:rPr>
              <a:t>Starea businessului: este vorba de un business nou sau este vorba de o extindere, sau de o achiziţie a unui business activ?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500" spc="-1" strike="noStrike">
                <a:solidFill>
                  <a:srgbClr val="000000"/>
                </a:solidFill>
                <a:latin typeface="Calibri"/>
              </a:rPr>
              <a:t>Ce piaţă îţi propui să deserveşti; care este volumul ei şi care ar fi segmentul de piaţă pe care ai dori să-l acoperi?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5d5dae"/>
              </a:buClr>
              <a:buFont typeface="Wingdings" charset="2"/>
              <a:buChar char="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o-RO" sz="2500" spc="-1" strike="noStrike">
                <a:solidFill>
                  <a:srgbClr val="000000"/>
                </a:solidFill>
                <a:latin typeface="Calibri"/>
              </a:rPr>
              <a:t>Va putea compania ta să deservească piaţa mai bine decât concurenţii? De ce va fi profitabil businessul tău?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5d5dae"/>
              </a:buClr>
              <a:buFont typeface="Wingdings" charset="2"/>
              <a:buChar char="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2500" spc="-1" strike="noStrike">
                <a:solidFill>
                  <a:srgbClr val="000000"/>
                </a:solidFill>
                <a:latin typeface="Calibri"/>
              </a:rPr>
              <a:t>Cum vei obține produsul? Descrie paşii necesari pentru a produce produsul tău şi pentru a-l duce pe piaţă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5d5dae"/>
              </a:buClr>
              <a:buFont typeface="Wingdings" charset="2"/>
              <a:buChar char="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MD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2500" spc="-1" strike="noStrike">
                <a:solidFill>
                  <a:srgbClr val="000000"/>
                </a:solidFill>
                <a:latin typeface="Calibri"/>
              </a:rPr>
              <a:t>De ce echipă managerială şi alt personal dispui şi care este necesarul pentru a realiza afacerea?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5d5dae"/>
              </a:buClr>
              <a:buFont typeface="Wingdings" charset="2"/>
              <a:buChar char="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2500" spc="-1" strike="noStrike">
                <a:solidFill>
                  <a:srgbClr val="000000"/>
                </a:solidFill>
                <a:latin typeface="Calibri"/>
              </a:rPr>
              <a:t>Când vei porni (sau ai pornit) afacerea?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5d5dae"/>
              </a:buClr>
              <a:buFont typeface="Wingdings" charset="2"/>
              <a:buChar char="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MD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2500" spc="-1" strike="noStrike">
                <a:solidFill>
                  <a:srgbClr val="000000"/>
                </a:solidFill>
                <a:latin typeface="Calibri"/>
              </a:rPr>
              <a:t>De ce un împrumut sau altă investiţie din partea cuiva (în cazul când este relevant) va face businessul mai profitabil?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886880" cy="132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500" spc="-1" strike="noStrike">
                <a:solidFill>
                  <a:srgbClr val="c00000"/>
                </a:solidFill>
                <a:latin typeface="Calibri Light"/>
              </a:rPr>
              <a:t>Analiza Planurilor de afacere</a:t>
            </a:r>
            <a:br>
              <a:rPr sz="3500"/>
            </a:br>
            <a:r>
              <a:rPr b="1" lang="ro-RO" sz="3500" spc="-1" strike="noStrike">
                <a:solidFill>
                  <a:srgbClr val="c00000"/>
                </a:solidFill>
                <a:latin typeface="Calibri Light"/>
              </a:rPr>
              <a:t>Studiu de caz</a:t>
            </a:r>
            <a:endParaRPr b="0" lang="en-US" sz="35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28200" y="2041560"/>
            <a:ext cx="3886200" cy="110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o-RO" sz="21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</a:rPr>
              <a:t>implu/ u</a:t>
            </a:r>
            <a:r>
              <a:rPr b="1" lang="ro-RO" sz="2100" spc="-1" strike="noStrike">
                <a:solidFill>
                  <a:srgbClr val="000000"/>
                </a:solidFill>
                <a:latin typeface="Calibri"/>
              </a:rPr>
              <a:t>ș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</a:rPr>
              <a:t>or de elaborat, realizat, scri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628880" y="2112480"/>
            <a:ext cx="3886200" cy="95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o-RO" sz="2100" spc="-1" strike="noStrike">
                <a:solidFill>
                  <a:srgbClr val="000000"/>
                </a:solidFill>
                <a:latin typeface="Calibri"/>
              </a:rPr>
              <a:t>Dificil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</a:rPr>
              <a:t>/ </a:t>
            </a:r>
            <a:r>
              <a:rPr b="1" lang="ro-RO" sz="2100" spc="-1" strike="noStrike">
                <a:solidFill>
                  <a:srgbClr val="000000"/>
                </a:solidFill>
                <a:latin typeface="Calibri"/>
              </a:rPr>
              <a:t>greu 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</a:rPr>
              <a:t>de elaborat, realizat, scri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838080" y="3182760"/>
            <a:ext cx="7886880" cy="31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o-RO" sz="3300" spc="-1" strike="noStrike">
                <a:solidFill>
                  <a:srgbClr val="c00000"/>
                </a:solidFill>
                <a:latin typeface="Calibri Light"/>
                <a:ea typeface="Arial"/>
              </a:rPr>
              <a:t>Timp de 10 min. identificați aspectele menționate în chenarele de mai sus.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o-RO" sz="3300" spc="-1" strike="noStrike">
                <a:solidFill>
                  <a:srgbClr val="c00000"/>
                </a:solidFill>
                <a:latin typeface="Calibri Light"/>
                <a:ea typeface="Arial"/>
              </a:rPr>
              <a:t>Argumentați, pe cât posibil, răspunsurile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o-RO" sz="33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o-RO" sz="4000" spc="-1" strike="noStrike">
                <a:solidFill>
                  <a:srgbClr val="c00000"/>
                </a:solidFill>
                <a:latin typeface="Times New Roman"/>
              </a:rPr>
              <a:t>Scopul                        Obiectivele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99840" y="1872720"/>
            <a:ext cx="3871800" cy="430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100" spc="-1" strike="noStrike">
                <a:solidFill>
                  <a:srgbClr val="000000"/>
                </a:solidFill>
                <a:latin typeface="Times New Roman"/>
              </a:rPr>
              <a:t>Formularea scopului poate fi legat de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100" spc="-1" strike="noStrike">
                <a:solidFill>
                  <a:srgbClr val="000000"/>
                </a:solidFill>
                <a:latin typeface="Times New Roman"/>
              </a:rPr>
              <a:t>Diversificarea gamei de servicii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100" spc="-1" strike="noStrike">
                <a:solidFill>
                  <a:srgbClr val="000000"/>
                </a:solidFill>
                <a:latin typeface="Times New Roman"/>
              </a:rPr>
              <a:t>Extinderea ariei geografic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100" spc="-1" strike="noStrike">
                <a:solidFill>
                  <a:srgbClr val="000000"/>
                </a:solidFill>
                <a:latin typeface="Times New Roman"/>
              </a:rPr>
              <a:t>Creșterea cifrei de afaceri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/ profit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100" spc="-1" strike="noStrike">
                <a:solidFill>
                  <a:srgbClr val="000000"/>
                </a:solidFill>
                <a:latin typeface="Times New Roman"/>
              </a:rPr>
              <a:t>Export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100" spc="-1" strike="noStrike">
                <a:solidFill>
                  <a:srgbClr val="000000"/>
                </a:solidFill>
                <a:latin typeface="Times New Roman"/>
              </a:rPr>
              <a:t>Modernizarea procesului tehnologic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100" spc="-1" strike="noStrike">
                <a:solidFill>
                  <a:srgbClr val="000000"/>
                </a:solidFill>
                <a:latin typeface="Times New Roman"/>
              </a:rPr>
              <a:t>Atingerea și menținerea unui anumit nivel din cota de piață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5214960" y="1873080"/>
            <a:ext cx="3102120" cy="378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Times New Roman"/>
                <a:ea typeface="Arial"/>
              </a:rPr>
              <a:t>Concret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Times New Roman"/>
                <a:ea typeface="Arial"/>
              </a:rPr>
              <a:t>Orientate în timp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Times New Roman"/>
                <a:ea typeface="Arial"/>
              </a:rPr>
              <a:t>Măsurabil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Times New Roman"/>
                <a:ea typeface="Arial"/>
              </a:rPr>
              <a:t>Real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Arial"/>
              </a:rPr>
              <a:t>/realizabil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Times New Roman"/>
                <a:ea typeface="Arial"/>
              </a:rPr>
              <a:t>Flexibil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6" descr="De ce este importanta Analiza SWOT pentru afacerea ta | Coface ..."/>
          <p:cNvPicPr/>
          <p:nvPr/>
        </p:nvPicPr>
        <p:blipFill>
          <a:blip r:embed="rId1"/>
          <a:stretch/>
        </p:blipFill>
        <p:spPr>
          <a:xfrm>
            <a:off x="179280" y="115920"/>
            <a:ext cx="8964720" cy="5543640"/>
          </a:xfrm>
          <a:prstGeom prst="rect">
            <a:avLst/>
          </a:prstGeom>
          <a:ln w="0">
            <a:noFill/>
          </a:ln>
        </p:spPr>
      </p:pic>
      <p:sp>
        <p:nvSpPr>
          <p:cNvPr id="96" name="Заголовок 1"/>
          <p:cNvSpPr/>
          <p:nvPr/>
        </p:nvSpPr>
        <p:spPr>
          <a:xfrm>
            <a:off x="250920" y="5445000"/>
            <a:ext cx="87138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o-RO" sz="3500" spc="-1" strike="noStrike">
                <a:solidFill>
                  <a:srgbClr val="c00000"/>
                </a:solidFill>
                <a:latin typeface="Calibri Light"/>
                <a:ea typeface="Arial"/>
              </a:rPr>
              <a:t>Instrument managerial pentru eficientizarea activității afacerii</a:t>
            </a: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8080" y="33300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o-RO" sz="3300" spc="-1" strike="noStrike">
                <a:solidFill>
                  <a:srgbClr val="c00000"/>
                </a:solidFill>
                <a:latin typeface="Times New Roman"/>
              </a:rPr>
              <a:t>De ce este necesară </a:t>
            </a:r>
            <a:br>
              <a:rPr sz="3300"/>
            </a:br>
            <a:r>
              <a:rPr b="1" lang="ro-RO" sz="3300" spc="-1" strike="noStrike">
                <a:solidFill>
                  <a:srgbClr val="c00000"/>
                </a:solidFill>
                <a:latin typeface="Times New Roman"/>
              </a:rPr>
              <a:t>                 analiza SWOT?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1844640"/>
            <a:ext cx="61326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va contribui la analiza situaţiei existente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va ajuta la definirea strategiei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va servi ca sursă de informaţie  la analiza riscurilor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va adăuga o valoare considerabilă planului DVS.,pentru că va prezenta informația de asamblu despre afacere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4" descr="PE01622_"/>
          <p:cNvPicPr/>
          <p:nvPr/>
        </p:nvPicPr>
        <p:blipFill>
          <a:blip r:embed="rId1"/>
          <a:stretch/>
        </p:blipFill>
        <p:spPr>
          <a:xfrm>
            <a:off x="6400800" y="1905120"/>
            <a:ext cx="274320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55280" y="2138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Times New Roman"/>
              </a:rPr>
              <a:t>Domenii pentru identificarea </a:t>
            </a:r>
            <a:br>
              <a:rPr sz="3200"/>
            </a:br>
            <a:r>
              <a:rPr b="1" lang="ro-RO" sz="32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1" lang="en-US" sz="3200" spc="-1" strike="noStrike">
                <a:solidFill>
                  <a:srgbClr val="0563c1"/>
                </a:solidFill>
                <a:latin typeface="Times New Roman"/>
              </a:rPr>
              <a:t>atuutilor</a:t>
            </a:r>
            <a:r>
              <a:rPr b="1" lang="ro-RO" sz="3200" spc="-1" strike="noStrike">
                <a:solidFill>
                  <a:srgbClr val="000000"/>
                </a:solidFill>
                <a:latin typeface="Times New Roman"/>
              </a:rPr>
              <a:t> şi </a:t>
            </a:r>
            <a:r>
              <a:rPr b="1" lang="en-US" sz="3200" spc="-1" strike="noStrike">
                <a:solidFill>
                  <a:srgbClr val="0563c1"/>
                </a:solidFill>
                <a:latin typeface="Times New Roman"/>
              </a:rPr>
              <a:t> </a:t>
            </a:r>
            <a:r>
              <a:rPr b="1" lang="ro-RO" sz="3200" spc="-1" strike="noStrike">
                <a:solidFill>
                  <a:srgbClr val="0563c1"/>
                </a:solidFill>
                <a:latin typeface="Times New Roman"/>
              </a:rPr>
              <a:t>slă</a:t>
            </a:r>
            <a:r>
              <a:rPr b="1" lang="en-US" sz="3200" spc="-1" strike="noStrike">
                <a:solidFill>
                  <a:srgbClr val="0563c1"/>
                </a:solidFill>
                <a:latin typeface="Times New Roman"/>
              </a:rPr>
              <a:t>biciunilor</a:t>
            </a:r>
            <a:r>
              <a:rPr b="0" lang="ro-RO" sz="3300" spc="-1" strike="noStrike">
                <a:solidFill>
                  <a:srgbClr val="000000"/>
                </a:solidFill>
                <a:latin typeface="Calibri Light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539640" y="1268280"/>
          <a:ext cx="8058240" cy="5631120"/>
        </p:xfrm>
        <a:graphic>
          <a:graphicData uri="http://schemas.openxmlformats.org/drawingml/2006/table">
            <a:tbl>
              <a:tblPr/>
              <a:tblGrid>
                <a:gridCol w="1839960"/>
                <a:gridCol w="3191040"/>
                <a:gridCol w="3027240"/>
              </a:tblGrid>
              <a:tr h="1006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000" spc="-1" strike="noStrike">
                          <a:solidFill>
                            <a:srgbClr val="44546a"/>
                          </a:solidFill>
                          <a:latin typeface="Times New Roman"/>
                        </a:rPr>
                        <a:t>Domeniul de activitate a întreprinderi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3600" spc="-1" strike="noStrike">
                          <a:solidFill>
                            <a:srgbClr val="0563c1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o-RO" sz="36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Atuuri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3600" spc="-1" strike="noStrike">
                          <a:solidFill>
                            <a:srgbClr val="0563c1"/>
                          </a:solidFill>
                          <a:latin typeface="Times New Roman"/>
                        </a:rPr>
                        <a:t>Slăbiciuni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2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954f72"/>
                          </a:solidFill>
                          <a:latin typeface="Times New Roman"/>
                        </a:rPr>
                        <a:t>Producţi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   Calitatea înaltă a produsel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icenţă proprie de fabricaţi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  Uzura fizică şi morală a echipamentulu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  Linie de produs limitată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9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54f72"/>
                          </a:solidFill>
                          <a:latin typeface="Times New Roman"/>
                        </a:rPr>
                        <a:t>Person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  </a:t>
                      </a: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xperienţă în domeni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   Personal califica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Înalt nivel de fluctuaţie a cadrelor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77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54f72"/>
                          </a:solidFill>
                          <a:latin typeface="Times New Roman"/>
                        </a:rPr>
                        <a:t>Market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   Servicii post vânza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   Clienţi fcare periodic apelează la serviciile/produsele companie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ţuri reduse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    Promovarea slab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    Stocuri mari de produse fini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6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954f72"/>
                          </a:solidFill>
                          <a:latin typeface="Times New Roman"/>
                        </a:rPr>
                        <a:t>Finanţ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  Controlul financiar rigur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954f72"/>
                        </a:buClr>
                        <a:buSzPct val="60000"/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ichidităț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954f72"/>
                        </a:buClr>
                        <a:buSzPct val="60000"/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tribuție propr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   Insuficienţa resurselor financia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000" y="228600"/>
            <a:ext cx="8294760" cy="96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o-RO" sz="3100" spc="-1" strike="noStrike">
                <a:solidFill>
                  <a:srgbClr val="000000"/>
                </a:solidFill>
                <a:latin typeface="Times New Roman"/>
              </a:rPr>
              <a:t>Domenii în care pot apărea </a:t>
            </a:r>
            <a:r>
              <a:rPr b="1" lang="ro-RO" sz="3100" spc="-1" strike="noStrike">
                <a:solidFill>
                  <a:srgbClr val="0563c1"/>
                </a:solidFill>
                <a:latin typeface="Times New Roman"/>
              </a:rPr>
              <a:t>oportunităţi</a:t>
            </a:r>
            <a:r>
              <a:rPr b="1" lang="ro-RO" sz="3100" spc="-1" strike="noStrike">
                <a:solidFill>
                  <a:srgbClr val="000000"/>
                </a:solidFill>
                <a:latin typeface="Times New Roman"/>
              </a:rPr>
              <a:t> şi </a:t>
            </a:r>
            <a:r>
              <a:rPr b="1" lang="ro-RO" sz="3100" spc="-1" strike="noStrike">
                <a:solidFill>
                  <a:srgbClr val="0563c1"/>
                </a:solidFill>
                <a:latin typeface="Times New Roman"/>
              </a:rPr>
              <a:t>pericole</a:t>
            </a:r>
            <a:endParaRPr b="0" lang="en-US" sz="31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380880" y="1197000"/>
          <a:ext cx="8547120" cy="5662440"/>
        </p:xfrm>
        <a:graphic>
          <a:graphicData uri="http://schemas.openxmlformats.org/drawingml/2006/table">
            <a:tbl>
              <a:tblPr/>
              <a:tblGrid>
                <a:gridCol w="2257560"/>
                <a:gridCol w="3386160"/>
                <a:gridCol w="2903400"/>
              </a:tblGrid>
              <a:tr h="744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954f72"/>
                          </a:solidFill>
                          <a:latin typeface="Times New Roman"/>
                        </a:rPr>
                        <a:t>Domeni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8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OPORTUNIT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800" spc="-1" strike="noStrike">
                          <a:solidFill>
                            <a:srgbClr val="0563c1"/>
                          </a:solidFill>
                          <a:latin typeface="Times New Roman"/>
                        </a:rPr>
                        <a:t>PERICO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400" spc="-1" strike="noStrike">
                          <a:solidFill>
                            <a:srgbClr val="954f72"/>
                          </a:solidFill>
                          <a:latin typeface="Times New Roman"/>
                        </a:rPr>
                        <a:t>Politici guvernameta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400" spc="-1" strike="noStrike">
                          <a:solidFill>
                            <a:srgbClr val="954f72"/>
                          </a:solidFill>
                          <a:latin typeface="Times New Roman"/>
                          <a:ea typeface="Times New Roman"/>
                        </a:rPr>
                        <a:t>Oferirea înlesnirilor fiscale ÎMM</a:t>
                      </a:r>
                      <a:r>
                        <a:rPr b="0" lang="ru-RU" sz="2400" spc="-1" strike="noStrike">
                          <a:solidFill>
                            <a:srgbClr val="954f72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400" spc="-1" strike="noStrike">
                          <a:solidFill>
                            <a:srgbClr val="954f72"/>
                          </a:solidFill>
                          <a:latin typeface="Times New Roman"/>
                        </a:rPr>
                        <a:t>Avantaje acordate companiilor concuren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5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400" spc="-1" strike="noStrike">
                          <a:solidFill>
                            <a:srgbClr val="954f72"/>
                          </a:solidFill>
                          <a:latin typeface="Times New Roman"/>
                        </a:rPr>
                        <a:t>Piaţ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400" spc="-1" strike="noStrike">
                          <a:solidFill>
                            <a:srgbClr val="954f72"/>
                          </a:solidFill>
                          <a:latin typeface="Times New Roman"/>
                        </a:rPr>
                        <a:t>Piețe noi, pe care se poate intrat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400" spc="-1" strike="noStrike">
                          <a:solidFill>
                            <a:srgbClr val="954f72"/>
                          </a:solidFill>
                          <a:latin typeface="Times New Roman"/>
                          <a:ea typeface="Times New Roman"/>
                        </a:rPr>
                        <a:t>Creşterea rapidă a pieţei</a:t>
                      </a:r>
                      <a:r>
                        <a:rPr b="0" lang="ru-RU" sz="2400" spc="-1" strike="noStrike">
                          <a:solidFill>
                            <a:srgbClr val="954f72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400" spc="-1" strike="noStrike">
                          <a:solidFill>
                            <a:srgbClr val="954f72"/>
                          </a:solidFill>
                          <a:latin typeface="Times New Roman"/>
                        </a:rPr>
                        <a:t>Existenţa unei concurenţe </a:t>
                      </a:r>
                      <a:r>
                        <a:rPr b="0" lang="en-US" sz="2400" spc="-1" strike="noStrike">
                          <a:solidFill>
                            <a:srgbClr val="954f72"/>
                          </a:solidFill>
                          <a:latin typeface="Times New Roman"/>
                        </a:rPr>
                        <a:t>neloia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400" spc="-1" strike="noStrike">
                          <a:solidFill>
                            <a:srgbClr val="954f72"/>
                          </a:solidFill>
                          <a:latin typeface="Times New Roman"/>
                        </a:rPr>
                        <a:t>Economi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400" spc="-1" strike="noStrike">
                          <a:solidFill>
                            <a:srgbClr val="954f72"/>
                          </a:solidFill>
                          <a:latin typeface="Times New Roman"/>
                        </a:rPr>
                        <a:t>Parteneriate durabile – BtoB, Bto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400" spc="-1" strike="noStrike">
                          <a:solidFill>
                            <a:srgbClr val="954f72"/>
                          </a:solidFill>
                          <a:latin typeface="Times New Roman"/>
                          <a:ea typeface="Times New Roman"/>
                        </a:rPr>
                        <a:t>Creşterea costurilor la energi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31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400" spc="-1" strike="noStrike">
                          <a:solidFill>
                            <a:srgbClr val="954f72"/>
                          </a:solidFill>
                          <a:latin typeface="Times New Roman"/>
                        </a:rPr>
                        <a:t>Financi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400" spc="-1" strike="noStrike">
                          <a:solidFill>
                            <a:srgbClr val="954f72"/>
                          </a:solidFill>
                          <a:latin typeface="Times New Roman"/>
                        </a:rPr>
                        <a:t>Stabilitatea monedei naţionale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400" spc="-1" strike="noStrike">
                          <a:solidFill>
                            <a:srgbClr val="954f72"/>
                          </a:solidFill>
                          <a:latin typeface="Times New Roman"/>
                        </a:rPr>
                        <a:t>Programe de susținere a tinerilor fermier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400" spc="-1" strike="noStrike">
                          <a:solidFill>
                            <a:srgbClr val="954f72"/>
                          </a:solidFill>
                          <a:latin typeface="Times New Roman"/>
                          <a:ea typeface="Times New Roman"/>
                        </a:rPr>
                        <a:t>Dobânda bancară înaltă</a:t>
                      </a:r>
                      <a:r>
                        <a:rPr b="0" lang="ru-RU" sz="2400" spc="-1" strike="noStrike">
                          <a:solidFill>
                            <a:srgbClr val="954f72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o-RO" sz="3300" spc="-1" strike="noStrike">
                <a:solidFill>
                  <a:srgbClr val="000000"/>
                </a:solidFill>
                <a:latin typeface="Times New Roman"/>
              </a:rPr>
              <a:t>Domenii în care pot apărea </a:t>
            </a:r>
            <a:r>
              <a:rPr b="1" lang="ro-RO" sz="3300" spc="-1" strike="noStrike">
                <a:solidFill>
                  <a:srgbClr val="0563c1"/>
                </a:solidFill>
                <a:latin typeface="Times New Roman"/>
              </a:rPr>
              <a:t>oportunităţi</a:t>
            </a:r>
            <a:r>
              <a:rPr b="1" lang="ro-RO" sz="3300" spc="-1" strike="noStrike">
                <a:solidFill>
                  <a:srgbClr val="000000"/>
                </a:solidFill>
                <a:latin typeface="Times New Roman"/>
              </a:rPr>
              <a:t> şi </a:t>
            </a:r>
            <a:r>
              <a:rPr b="1" lang="ro-RO" sz="3300" spc="-1" strike="noStrike">
                <a:solidFill>
                  <a:srgbClr val="0563c1"/>
                </a:solidFill>
                <a:latin typeface="Times New Roman"/>
              </a:rPr>
              <a:t>pericol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533520" y="2286000"/>
          <a:ext cx="8305560" cy="3718080"/>
        </p:xfrm>
        <a:graphic>
          <a:graphicData uri="http://schemas.openxmlformats.org/drawingml/2006/table">
            <a:tbl>
              <a:tblPr/>
              <a:tblGrid>
                <a:gridCol w="2209680"/>
                <a:gridCol w="3641760"/>
                <a:gridCol w="245412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44546a"/>
                          </a:solidFill>
                          <a:latin typeface="Times New Roman"/>
                        </a:rPr>
                        <a:t>Domeni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8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OPORTUNIT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800" spc="-1" strike="noStrike">
                          <a:solidFill>
                            <a:srgbClr val="0563c1"/>
                          </a:solidFill>
                          <a:latin typeface="Times New Roman"/>
                        </a:rPr>
                        <a:t>PERICO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400" spc="-1" strike="noStrike">
                          <a:solidFill>
                            <a:srgbClr val="954f72"/>
                          </a:solidFill>
                          <a:latin typeface="Times New Roman"/>
                          <a:ea typeface="Times New Roman"/>
                        </a:rPr>
                        <a:t>Social</a:t>
                      </a:r>
                      <a:r>
                        <a:rPr b="1" lang="ru-RU" sz="2400" spc="-1" strike="noStrike">
                          <a:solidFill>
                            <a:srgbClr val="954f72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400" spc="-1" strike="noStrike">
                          <a:solidFill>
                            <a:srgbClr val="954f72"/>
                          </a:solidFill>
                          <a:latin typeface="Times New Roman"/>
                          <a:ea typeface="Times New Roman"/>
                        </a:rPr>
                        <a:t>Schimbarea nevoilor şi gusturilor consumatorilor</a:t>
                      </a:r>
                      <a:r>
                        <a:rPr b="0" lang="ru-RU" sz="2400" spc="-1" strike="noStrike">
                          <a:solidFill>
                            <a:srgbClr val="954f72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400" spc="-1" strike="noStrike">
                          <a:solidFill>
                            <a:srgbClr val="954f72"/>
                          </a:solidFill>
                          <a:latin typeface="Times New Roman"/>
                          <a:ea typeface="Times New Roman"/>
                        </a:rPr>
                        <a:t>Reducerea veniturilor populaţiei</a:t>
                      </a:r>
                      <a:r>
                        <a:rPr b="0" lang="ru-RU" sz="2400" spc="-1" strike="noStrike">
                          <a:solidFill>
                            <a:srgbClr val="954f72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400" spc="-1" strike="noStrike">
                          <a:solidFill>
                            <a:srgbClr val="954f72"/>
                          </a:solidFill>
                          <a:latin typeface="Times New Roman"/>
                        </a:rPr>
                        <a:t>Tehnologi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400" spc="-1" strike="noStrike">
                          <a:solidFill>
                            <a:srgbClr val="954f72"/>
                          </a:solidFill>
                          <a:latin typeface="Times New Roman"/>
                          <a:ea typeface="Times New Roman"/>
                        </a:rPr>
                        <a:t>Apariţia  unor noi tehnologii informaţionale</a:t>
                      </a:r>
                      <a:r>
                        <a:rPr b="0" lang="ru-RU" sz="2400" spc="-1" strike="noStrike">
                          <a:solidFill>
                            <a:srgbClr val="954f72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400" spc="-1" strike="noStrike">
                          <a:solidFill>
                            <a:srgbClr val="954f72"/>
                          </a:solidFill>
                          <a:latin typeface="Times New Roman"/>
                          <a:ea typeface="Times New Roman"/>
                        </a:rPr>
                        <a:t>Apariţia unor produse substituibile</a:t>
                      </a:r>
                      <a:r>
                        <a:rPr b="0" lang="ru-RU" sz="2400" spc="-1" strike="noStrike">
                          <a:solidFill>
                            <a:srgbClr val="954f72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400" spc="-1" strike="noStrike">
                          <a:solidFill>
                            <a:srgbClr val="954f72"/>
                          </a:solidFill>
                          <a:latin typeface="Times New Roman"/>
                        </a:rPr>
                        <a:t>Demografi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400" spc="-1" strike="noStrike">
                          <a:solidFill>
                            <a:srgbClr val="954f72"/>
                          </a:solidFill>
                          <a:latin typeface="Times New Roman"/>
                        </a:rPr>
                        <a:t>Personal calificat disponibil pe plan loc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400" spc="-1" strike="noStrike">
                          <a:solidFill>
                            <a:srgbClr val="954f72"/>
                          </a:solidFill>
                          <a:latin typeface="Times New Roman"/>
                        </a:rPr>
                        <a:t>Rata joasă a natalităţi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6" name=""/>
          <p:cNvGraphicFramePr/>
          <p:nvPr/>
        </p:nvGraphicFramePr>
        <p:xfrm>
          <a:off x="684360" y="547560"/>
          <a:ext cx="8208720" cy="5762880"/>
        </p:xfrm>
        <a:graphic>
          <a:graphicData uri="http://schemas.openxmlformats.org/drawingml/2006/table">
            <a:tbl>
              <a:tblPr/>
              <a:tblGrid>
                <a:gridCol w="2763720"/>
                <a:gridCol w="1222200"/>
                <a:gridCol w="1446480"/>
                <a:gridCol w="1446120"/>
                <a:gridCol w="1330200"/>
              </a:tblGrid>
              <a:tr h="362160">
                <a:tc>
                  <a:txBody>
                    <a:bodyPr lIns="7560" rIns="7560" tIns="7560" bIns="756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omeni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7560" rIns="7560" tIns="7560" bIns="756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7560" rIns="7560" tIns="7560" bIns="756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W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7560" rIns="7560" tIns="7560" bIns="756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7560" rIns="7560" tIns="7560" bIns="756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1800">
                <a:tc>
                  <a:txBody>
                    <a:bodyPr lIns="7560" rIns="7560" tIns="7560" bIns="756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7560" rIns="7560" tIns="7560" bIns="756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7560" rIns="7560" tIns="7560" bIns="756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7560" rIns="7560" tIns="7560" bIns="756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7560" rIns="7560" tIns="7560" bIns="756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1044720">
                <a:tc>
                  <a:txBody>
                    <a:bodyPr lIns="7560" rIns="7560" tIns="7560" bIns="756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o-RO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Experiența în domeni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o-RO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7560" rIns="7560" tIns="7560" bIns="756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7560" rIns="7560" tIns="7560" bIns="756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7560" rIns="7560" tIns="7560" bIns="756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7560" rIns="7560" tIns="7560" bIns="756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704880">
                <a:tc>
                  <a:txBody>
                    <a:bodyPr lIns="7560" rIns="7560" tIns="7560" bIns="756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o-RO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Gama de servicii/produs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7560" rIns="7560" tIns="7560" bIns="756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7560" rIns="7560" tIns="7560" bIns="756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7560" rIns="7560" tIns="7560" bIns="756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7560" rIns="7560" tIns="7560" bIns="756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453960">
                <a:tc>
                  <a:txBody>
                    <a:bodyPr lIns="7560" rIns="7560" tIns="7560" bIns="756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o-RO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iaț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7560" rIns="7560" tIns="7560" bIns="756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7560" rIns="7560" tIns="7560" bIns="756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7560" rIns="7560" tIns="7560" bIns="756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7560" rIns="7560" tIns="7560" bIns="756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4360">
                <a:tc>
                  <a:txBody>
                    <a:bodyPr lIns="7560" rIns="7560" tIns="7560" bIns="756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o-RO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ublicitate și comunicare cu clienți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7560" rIns="7560" tIns="7560" bIns="756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7560" rIns="7560" tIns="7560" bIns="756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7560" rIns="7560" tIns="7560" bIns="756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7560" rIns="7560" tIns="7560" bIns="756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2160">
                <a:tc>
                  <a:txBody>
                    <a:bodyPr lIns="7560" rIns="7560" tIns="7560" bIns="756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esurse uma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7560" rIns="7560" tIns="7560" bIns="756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7560" rIns="7560" tIns="7560" bIns="756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7560" rIns="7560" tIns="7560" bIns="756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7560" rIns="7560" tIns="7560" bIns="756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525600">
                <a:tc>
                  <a:txBody>
                    <a:bodyPr lIns="7560" rIns="7560" tIns="7560" bIns="756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o-RO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esurse materia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7560" rIns="7560" tIns="7560" bIns="756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7560" rIns="7560" tIns="7560" bIns="756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7560" rIns="7560" tIns="7560" bIns="756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7560" rIns="7560" tIns="7560" bIns="756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453960">
                <a:tc>
                  <a:txBody>
                    <a:bodyPr lIns="7560" rIns="7560" tIns="7560" bIns="756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o-RO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aterie prim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7560" rIns="7560" tIns="7560" bIns="756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7560" rIns="7560" tIns="7560" bIns="756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7560" rIns="7560" tIns="7560" bIns="756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7560" rIns="7560" tIns="7560" bIns="756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449280">
                <a:tc>
                  <a:txBody>
                    <a:bodyPr lIns="7560" rIns="7560" tIns="7560" bIns="756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otare tehnic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7560" rIns="7560" tIns="7560" bIns="756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7560" rIns="7560" tIns="7560" bIns="756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7560" rIns="7560" tIns="7560" bIns="756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7560" rIns="7560" tIns="7560" bIns="756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44520" y="861480"/>
            <a:ext cx="8548560" cy="55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o-RO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Strategia afacerii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331640" y="1915920"/>
            <a:ext cx="684036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 ce metode vor fi minimalizate punctele slabe și riscuri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m diminuăm un risc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area opțiunilor existen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nificarea măsuril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10920" y="404280"/>
            <a:ext cx="81738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o-RO" sz="3000" spc="-1" strike="noStrike">
                <a:solidFill>
                  <a:srgbClr val="c00000"/>
                </a:solidFill>
                <a:latin typeface="Times New Roman"/>
              </a:rPr>
              <a:t>Strategia </a:t>
            </a:r>
            <a:r>
              <a:rPr b="1" lang="ru-RU" sz="3000" spc="-1" strike="noStrike">
                <a:solidFill>
                  <a:srgbClr val="c00000"/>
                </a:solidFill>
                <a:latin typeface="Times New Roman"/>
              </a:rPr>
              <a:t> de marketing</a:t>
            </a:r>
            <a:r>
              <a:rPr b="1" lang="ro-RO" sz="3000" spc="-1" strike="noStrike">
                <a:solidFill>
                  <a:srgbClr val="c00000"/>
                </a:solidFill>
                <a:latin typeface="Times New Roman"/>
              </a:rPr>
              <a:t> 2</a:t>
            </a:r>
            <a:r>
              <a:rPr b="1" lang="en-US" sz="3000" spc="-1" strike="noStrike">
                <a:solidFill>
                  <a:srgbClr val="c00000"/>
                </a:solidFill>
                <a:latin typeface="Times New Roman"/>
              </a:rPr>
              <a:t>.1 </a:t>
            </a:r>
            <a:r>
              <a:rPr b="1" lang="ro-RO" sz="3000" spc="-1" strike="noStrike">
                <a:solidFill>
                  <a:srgbClr val="c00000"/>
                </a:solidFill>
                <a:latin typeface="Times New Roman"/>
              </a:rPr>
              <a:t>Piaţa şi consumatorii</a:t>
            </a:r>
            <a:endParaRPr b="0" lang="en-US" sz="3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50560" y="1233360"/>
            <a:ext cx="8713800" cy="52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38088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5400"/>
                <a:tab algn="l" pos="38088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500" spc="-1" strike="noStrike">
                <a:solidFill>
                  <a:srgbClr val="000000"/>
                </a:solidFill>
                <a:latin typeface="Times New Roman"/>
              </a:rPr>
              <a:t>Caracteristicile pieţei pe care activează întreprinderea, structura  pieţei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2" marL="38088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5400"/>
                <a:tab algn="l" pos="38088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500" spc="-1" strike="noStrike">
                <a:solidFill>
                  <a:srgbClr val="000000"/>
                </a:solidFill>
                <a:latin typeface="Times New Roman"/>
              </a:rPr>
              <a:t>Analiza necesităţilor consumatorilor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ro-RO" sz="2500" spc="-1" strike="noStrike">
                <a:solidFill>
                  <a:srgbClr val="000000"/>
                </a:solidFill>
                <a:latin typeface="Times New Roman"/>
              </a:rPr>
              <a:t>pr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testare</a:t>
            </a:r>
            <a:r>
              <a:rPr b="0" lang="ro-RO" sz="25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2" marL="38088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5400"/>
                <a:tab algn="l" pos="38088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500" spc="-1" strike="noStrike">
                <a:solidFill>
                  <a:srgbClr val="000000"/>
                </a:solidFill>
                <a:latin typeface="Times New Roman"/>
              </a:rPr>
              <a:t>Ce problemă soluționează afacerea dvs.?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2" marL="38088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5400"/>
                <a:tab algn="l" pos="38088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500" spc="-1" strike="noStrike">
                <a:solidFill>
                  <a:srgbClr val="000000"/>
                </a:solidFill>
                <a:latin typeface="Times New Roman"/>
              </a:rPr>
              <a:t>A cui problemă soluționăm prin produsul nostru?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2" marL="38088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5400"/>
                <a:tab algn="l" pos="38088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5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o-RO" sz="2500" spc="-1" strike="noStrike">
                <a:solidFill>
                  <a:srgbClr val="000000"/>
                </a:solidFill>
                <a:latin typeface="Times New Roman"/>
              </a:rPr>
              <a:t>Cum identificăm consumatorii noştri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cu ajutorul test</a:t>
            </a:r>
            <a:r>
              <a:rPr b="0" lang="ro-RO" sz="2500" spc="-1" strike="noStrike">
                <a:solidFill>
                  <a:srgbClr val="000000"/>
                </a:solidFill>
                <a:latin typeface="Times New Roman"/>
              </a:rPr>
              <a:t>ării?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2" marL="38088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5400"/>
                <a:tab algn="l" pos="38088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5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o-RO" sz="2500" spc="-1" strike="noStrike">
                <a:solidFill>
                  <a:srgbClr val="000000"/>
                </a:solidFill>
                <a:latin typeface="Times New Roman"/>
              </a:rPr>
              <a:t>Unde se găsesc ei?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2" marL="38088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5400"/>
                <a:tab algn="l" pos="38088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5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o-RO" sz="2500" spc="-1" strike="noStrike">
                <a:solidFill>
                  <a:srgbClr val="000000"/>
                </a:solidFill>
                <a:latin typeface="Times New Roman"/>
              </a:rPr>
              <a:t>Cât de des cumpără ei produsele sau serviciile noastre?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2" marL="38088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5400"/>
                <a:tab algn="l" pos="38088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5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o-RO" sz="2500" spc="-1" strike="noStrike">
                <a:solidFill>
                  <a:srgbClr val="000000"/>
                </a:solidFill>
                <a:latin typeface="Times New Roman"/>
              </a:rPr>
              <a:t>Care este plus valoarea de care beneciază ei prin procurarea serviciilor/produselor noastre?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2" marL="380880" algn="just">
              <a:lnSpc>
                <a:spcPct val="90000"/>
              </a:lnSpc>
              <a:spcBef>
                <a:spcPts val="374"/>
              </a:spcBef>
              <a:buClr>
                <a:srgbClr val="c00000"/>
              </a:buClr>
              <a:buFont typeface="Arial"/>
              <a:buChar char="•"/>
              <a:tabLst>
                <a:tab algn="l" pos="95400"/>
                <a:tab algn="l" pos="38088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o-RO" sz="2500" spc="-1" strike="noStrike">
                <a:solidFill>
                  <a:srgbClr val="c00000"/>
                </a:solidFill>
                <a:latin typeface="Times New Roman"/>
              </a:rPr>
              <a:t>  </a:t>
            </a:r>
            <a:r>
              <a:rPr b="1" lang="ro-RO" sz="2500" spc="-1" strike="noStrike">
                <a:solidFill>
                  <a:srgbClr val="c00000"/>
                </a:solidFill>
                <a:latin typeface="Times New Roman"/>
              </a:rPr>
              <a:t>Identificarea grupului ţintă/Avatarul afacerii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2" marL="380880" algn="just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5400"/>
                <a:tab algn="l" pos="38088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5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o-RO" sz="2500" spc="-1" strike="noStrike">
                <a:solidFill>
                  <a:srgbClr val="000000"/>
                </a:solidFill>
                <a:latin typeface="Times New Roman"/>
              </a:rPr>
              <a:t>Segmentarea pieţei. Care este segmentul pe care intenţionăm să-l ocupăm?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364680"/>
            <a:ext cx="7886880" cy="1335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o-RO" sz="3300" spc="-1" strike="noStrike">
                <a:solidFill>
                  <a:srgbClr val="c00000"/>
                </a:solidFill>
                <a:latin typeface="Calibri Light"/>
              </a:rPr>
              <a:t>MVP – Produsul minim viabil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628560" y="2060640"/>
            <a:ext cx="7886880" cy="45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o-RO" sz="2500" spc="-1" strike="noStrike">
                <a:solidFill>
                  <a:srgbClr val="000000"/>
                </a:solidFill>
                <a:latin typeface="Calibri"/>
              </a:rPr>
              <a:t>Minim</a:t>
            </a:r>
            <a:r>
              <a:rPr b="0" lang="ro-RO" sz="2500" spc="-1" strike="noStrike">
                <a:solidFill>
                  <a:srgbClr val="000000"/>
                </a:solidFill>
                <a:latin typeface="Calibri"/>
              </a:rPr>
              <a:t>- varianta rudimentară (care se află la începutul dezvoltării sale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o-RO" sz="2500" spc="-1" strike="noStrike">
                <a:solidFill>
                  <a:srgbClr val="000000"/>
                </a:solidFill>
                <a:latin typeface="Calibri"/>
              </a:rPr>
              <a:t>Viabil </a:t>
            </a:r>
            <a:r>
              <a:rPr b="0" lang="ro-RO" sz="2500" spc="-1" strike="noStrike">
                <a:solidFill>
                  <a:srgbClr val="000000"/>
                </a:solidFill>
                <a:latin typeface="Calibri"/>
              </a:rPr>
              <a:t> - val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ro-RO" sz="2500" spc="-1" strike="noStrike">
                <a:solidFill>
                  <a:srgbClr val="000000"/>
                </a:solidFill>
                <a:latin typeface="Calibri"/>
              </a:rPr>
              <a:t>dează necesitățile consumatorului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o-RO" sz="2500" spc="-1" strike="noStrike">
                <a:solidFill>
                  <a:srgbClr val="000000"/>
                </a:solidFill>
                <a:latin typeface="Calibri"/>
              </a:rPr>
              <a:t>Produs </a:t>
            </a:r>
            <a:r>
              <a:rPr b="0" lang="ro-RO" sz="2500" spc="-1" strike="noStrike">
                <a:solidFill>
                  <a:srgbClr val="000000"/>
                </a:solidFill>
                <a:latin typeface="Calibri"/>
              </a:rPr>
              <a:t>– tangibil, poți să îl testezi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libri Light"/>
              </a:rPr>
              <a:t>Analiza Planurilor de afacere</a:t>
            </a:r>
            <a:br>
              <a:rPr sz="3200"/>
            </a:br>
            <a:r>
              <a:rPr b="1" lang="ro-RO" sz="3200" spc="-1" strike="noStrike">
                <a:solidFill>
                  <a:srgbClr val="c00000"/>
                </a:solidFill>
                <a:latin typeface="Calibri Light"/>
              </a:rPr>
              <a:t>Studiu de caz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628560" y="1825200"/>
            <a:ext cx="81201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Enumerați cel puțin 5 așteptări de la acest program de formare, referindu-vă la următoarele aspecte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100" spc="-1" strike="noStrike">
                <a:solidFill>
                  <a:srgbClr val="000000"/>
                </a:solidFill>
                <a:latin typeface="Calibri"/>
              </a:rPr>
              <a:t>Structura PA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100" spc="-1" strike="noStrike">
                <a:solidFill>
                  <a:srgbClr val="000000"/>
                </a:solidFill>
                <a:latin typeface="Calibri"/>
              </a:rPr>
              <a:t>Temele care le doriți să fie a bordate mai mult în discuții;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100" spc="-1" strike="noStrike">
                <a:solidFill>
                  <a:srgbClr val="000000"/>
                </a:solidFill>
                <a:latin typeface="Calibri"/>
              </a:rPr>
              <a:t>Modulele unui plan de afacer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76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o-RO" sz="3300" spc="-1" strike="noStrike">
                <a:solidFill>
                  <a:srgbClr val="c00000"/>
                </a:solidFill>
                <a:latin typeface="Calibri Light"/>
              </a:rPr>
              <a:t>Despre MVP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395280" y="1197000"/>
            <a:ext cx="83534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o-RO" sz="2400" spc="-1" strike="noStrike">
                <a:solidFill>
                  <a:srgbClr val="c00000"/>
                </a:solidFill>
                <a:latin typeface="Calibri"/>
              </a:rPr>
              <a:t>Obiectivele MV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Să testeze practic ipoteza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Să optimizeze timpul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Să construiască credibilitate (voi face – am făcut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o-RO" sz="2400" spc="-1" strike="noStrike">
                <a:solidFill>
                  <a:srgbClr val="c00000"/>
                </a:solidFill>
                <a:latin typeface="Calibri"/>
              </a:rPr>
              <a:t>Avantajele MV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 Costă mai puțin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Riști cu mai puțin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o-RO" sz="2400" spc="-1" strike="noStrike">
                <a:solidFill>
                  <a:srgbClr val="c00000"/>
                </a:solidFill>
                <a:latin typeface="Calibri"/>
              </a:rPr>
              <a:t>Elementele de baz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ro-RO" sz="2100" spc="-1" strike="noStrike">
                <a:solidFill>
                  <a:srgbClr val="000000"/>
                </a:solidFill>
                <a:latin typeface="Calibri"/>
              </a:rPr>
              <a:t>Funcționabilitate</a:t>
            </a:r>
            <a:r>
              <a:rPr b="0" lang="ro-RO" sz="2100" spc="-1" strike="noStrike">
                <a:solidFill>
                  <a:srgbClr val="000000"/>
                </a:solidFill>
                <a:latin typeface="Calibri"/>
              </a:rPr>
              <a:t> – trebuie să aibă niște caracteristici clare și evidente;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ro-RO" sz="2100" spc="-1" strike="noStrike">
                <a:solidFill>
                  <a:srgbClr val="000000"/>
                </a:solidFill>
                <a:latin typeface="Calibri"/>
              </a:rPr>
              <a:t>Uzabilitate – </a:t>
            </a:r>
            <a:r>
              <a:rPr b="0" lang="ro-RO" sz="2100" spc="-1" strike="noStrike">
                <a:solidFill>
                  <a:srgbClr val="000000"/>
                </a:solidFill>
                <a:latin typeface="Calibri"/>
              </a:rPr>
              <a:t>simplu de folosit</a:t>
            </a:r>
            <a:r>
              <a:rPr b="0" i="1" lang="ro-RO" sz="21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ro-RO" sz="2100" spc="-1" strike="noStrike">
                <a:solidFill>
                  <a:srgbClr val="000000"/>
                </a:solidFill>
                <a:latin typeface="Calibri"/>
              </a:rPr>
              <a:t>Design </a:t>
            </a:r>
            <a:r>
              <a:rPr b="0" lang="ro-RO" sz="2100" spc="-1" strike="noStrike">
                <a:solidFill>
                  <a:srgbClr val="000000"/>
                </a:solidFill>
                <a:latin typeface="Calibri"/>
              </a:rPr>
              <a:t>– atractivitate pentru client (ambalaj, atractivitate estetică)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28560" y="364680"/>
            <a:ext cx="7886880" cy="61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o-RO" sz="3800" spc="-1" strike="noStrike">
                <a:solidFill>
                  <a:srgbClr val="c00000"/>
                </a:solidFill>
                <a:latin typeface="Calibri Light"/>
              </a:rPr>
              <a:t>Ce obții din testare prin MVP?</a:t>
            </a:r>
            <a:endParaRPr b="0" lang="en-US" sz="3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628560" y="1196640"/>
            <a:ext cx="7886880" cy="529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o-RO" sz="2100" spc="-1" strike="noStrike">
                <a:solidFill>
                  <a:srgbClr val="000000"/>
                </a:solidFill>
                <a:latin typeface="Calibri"/>
              </a:rPr>
              <a:t>Identifici segmentul care răspunde pozitiv și care este atras organic de produsul tău (</a:t>
            </a:r>
            <a:r>
              <a:rPr b="1" i="1" lang="ro-RO" sz="2100" spc="-1" strike="noStrike">
                <a:solidFill>
                  <a:srgbClr val="000000"/>
                </a:solidFill>
                <a:latin typeface="Calibri"/>
              </a:rPr>
              <a:t>te-ai gîndit la un profil al consumatorului, dar.</a:t>
            </a:r>
            <a:r>
              <a:rPr b="1" lang="ro-RO" sz="2100" spc="-1" strike="noStrike">
                <a:solidFill>
                  <a:srgbClr val="000000"/>
                </a:solidFill>
                <a:latin typeface="Calibri"/>
              </a:rPr>
              <a:t>..);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100" spc="-1" strike="noStrike">
                <a:solidFill>
                  <a:srgbClr val="000000"/>
                </a:solidFill>
                <a:latin typeface="Calibri"/>
              </a:rPr>
              <a:t>Informație calitativă și relevantă;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o-RO" sz="2100" spc="-1" strike="noStrike">
                <a:solidFill>
                  <a:srgbClr val="000000"/>
                </a:solidFill>
                <a:latin typeface="Calibri"/>
              </a:rPr>
              <a:t>Pe baza acestei informații poți crea un formular pentru toți cei care devin clienții tăi , îi rogi să îți răspundă și la niște întrebări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100" spc="-1" strike="noStrike">
                <a:solidFill>
                  <a:srgbClr val="000000"/>
                </a:solidFill>
                <a:latin typeface="Calibri"/>
              </a:rPr>
              <a:t>Îți dai seama dacă ai greșit publicul țintă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o-RO" sz="2100" spc="-1" strike="noStrike">
                <a:solidFill>
                  <a:srgbClr val="000000"/>
                </a:solidFill>
                <a:latin typeface="Calibri"/>
              </a:rPr>
              <a:t>Clarificarea unui Avatar de client, pe care il construiești prin experiență pe care ai obținut-o cu ajutorul MVP-ului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100" spc="-1" strike="noStrike">
                <a:solidFill>
                  <a:srgbClr val="000000"/>
                </a:solidFill>
                <a:latin typeface="Calibri"/>
              </a:rPr>
              <a:t>Beneficiile percepute față de beneficiile oferite, ce a contat pentru client, ce reprezintă pentru el valoarea;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o-RO" sz="2100" spc="-1" strike="noStrike">
                <a:solidFill>
                  <a:srgbClr val="000000"/>
                </a:solidFill>
                <a:latin typeface="Calibri"/>
              </a:rPr>
              <a:t>Poziționarea de preț potrivit;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100" spc="-1" strike="noStrike">
                <a:solidFill>
                  <a:srgbClr val="000000"/>
                </a:solidFill>
                <a:latin typeface="Calibri"/>
              </a:rPr>
              <a:t>Canalele de promovare;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o-RO" sz="2100" spc="-1" strike="noStrike">
                <a:solidFill>
                  <a:srgbClr val="000000"/>
                </a:solidFill>
                <a:latin typeface="Calibri"/>
              </a:rPr>
              <a:t>Canalele de distribuție (cum îi va fi mai ușor să achiziționeze mai ușor produsl tău)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100" spc="-1" strike="noStrike">
                <a:solidFill>
                  <a:srgbClr val="000000"/>
                </a:solidFill>
                <a:latin typeface="Calibri"/>
              </a:rPr>
              <a:t>Instruirea/educarea consumatorului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o-RO" sz="3600" spc="-1" strike="noStrike">
                <a:solidFill>
                  <a:srgbClr val="c00000"/>
                </a:solidFill>
                <a:latin typeface="Calibri Light"/>
              </a:rPr>
              <a:t>Si?....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28200" y="1341000"/>
            <a:ext cx="38862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 algn="ctr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4500" spc="-1" strike="noStrike">
                <a:solidFill>
                  <a:srgbClr val="000000"/>
                </a:solidFill>
                <a:latin typeface="Calibri"/>
              </a:rPr>
              <a:t>MVP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4500" spc="-1" strike="noStrike">
                <a:solidFill>
                  <a:srgbClr val="000000"/>
                </a:solidFill>
                <a:latin typeface="Calibri"/>
              </a:rPr>
              <a:t>(testarea )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628880" y="1341000"/>
            <a:ext cx="38862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4500" spc="-1" strike="noStrike">
                <a:solidFill>
                  <a:srgbClr val="000000"/>
                </a:solidFill>
                <a:latin typeface="Calibri"/>
              </a:rPr>
              <a:t>MMP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4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4500" spc="-1" strike="noStrike">
                <a:solidFill>
                  <a:srgbClr val="000000"/>
                </a:solidFill>
                <a:latin typeface="Calibri"/>
              </a:rPr>
              <a:t>(Minim Marketable Product)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100" spc="-1" strike="noStrike">
                <a:solidFill>
                  <a:srgbClr val="000000"/>
                </a:solidFill>
                <a:latin typeface="Calibri"/>
              </a:rPr>
              <a:t>Cum promovez și prin ce canale distribui?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11512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100" spc="-1" strike="noStrike">
                <a:solidFill>
                  <a:srgbClr val="0000ff"/>
                </a:solidFill>
                <a:latin typeface="Times New Roman"/>
              </a:rPr>
              <a:t>2.2 </a:t>
            </a:r>
            <a:r>
              <a:rPr b="1" lang="ro-RO" sz="3100" spc="-1" strike="noStrike">
                <a:solidFill>
                  <a:srgbClr val="0000ff"/>
                </a:solidFill>
                <a:latin typeface="Times New Roman"/>
              </a:rPr>
              <a:t>Concurența</a:t>
            </a:r>
            <a:endParaRPr b="0" lang="en-US" sz="3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10920" y="907560"/>
            <a:ext cx="815796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Times New Roman"/>
              </a:rPr>
              <a:t>Cine sunt concurenţii Dvs., de regulă 3-5 întreprinder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Times New Roman"/>
              </a:rPr>
              <a:t>Caracteristica produselor concurenţilor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Times New Roman"/>
              </a:rPr>
              <a:t>Atuurile şi slăbiciunile concurenţilo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Times New Roman"/>
              </a:rPr>
              <a:t>Analiza comparativă (descrierea situației)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ţi afacerea Dvs. şi afacerile concurenţilor Dvs.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5-</a:t>
            </a:r>
            <a:r>
              <a:rPr b="0" lang="ro-RO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a mai înaltă notă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1 – </a:t>
            </a:r>
            <a:r>
              <a:rPr b="0" lang="ro-RO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a mai joasă notă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1" lang="ro-RO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ţi sinceri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o-RO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ţă de sine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1547640" y="2801880"/>
          <a:ext cx="6193080" cy="3900600"/>
        </p:xfrm>
        <a:graphic>
          <a:graphicData uri="http://schemas.openxmlformats.org/drawingml/2006/table">
            <a:tbl>
              <a:tblPr/>
              <a:tblGrid>
                <a:gridCol w="1548000"/>
                <a:gridCol w="1547640"/>
                <a:gridCol w="1549440"/>
                <a:gridCol w="1548000"/>
              </a:tblGrid>
              <a:tr h="555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actorii competitivităţi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facerea Dv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ncurentul nr.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ncurentul nr.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mplasare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alitatea produsului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/</a:t>
                      </a:r>
                      <a:r>
                        <a:rPr b="0" lang="ro-RO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erviciulu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bilitatea de a vind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8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eţuri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…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o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Technical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11280" y="1676520"/>
            <a:ext cx="7627680" cy="470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954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 mijloace de promovare a produsului vor fi utilizat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on-line, off-line)</a:t>
            </a:r>
            <a:r>
              <a:rPr b="0" lang="ro-RO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e care le-am identificat cu ajutorul MV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954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 tip de reclamă  se va folosi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954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o-RO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getul de promovare (costurile pentru promovare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954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m vei comunica cu clienții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309600" y="90504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2.3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Promovarea afacerii</a:t>
            </a:r>
            <a:r>
              <a:rPr b="1" lang="ro-RO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o-RO" sz="3800" spc="-1" strike="noStrike">
                <a:solidFill>
                  <a:srgbClr val="c00000"/>
                </a:solidFill>
                <a:latin typeface="Calibri Light"/>
              </a:rPr>
              <a:t>Canale de comunicare </a:t>
            </a:r>
            <a:endParaRPr b="0" lang="en-US" sz="3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rii (site-ul tău, blogu-ul personal, pagina de fb, baza de date email, vizite organice, magazine, agenți de vânzari 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âștigate (postări sharuite, like-uri, share-ruri, parteneriate pe termen lung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ătite (reviste, TV, radio, 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o-RO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ți clienții unei afaceri sunt pe canale de comunicare, ei nu sunt acasă și mă duc să le bat la ușă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82360" y="549360"/>
            <a:ext cx="7792920" cy="47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o-RO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2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.4 </a:t>
            </a:r>
            <a:r>
              <a:rPr b="1" lang="ro-RO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Plasamentul și distribuția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80880" y="2060640"/>
            <a:ext cx="7570800" cy="37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85716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nde va fi amplasată afacerea, care sunt avantajele amplasării date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există alte întreprinder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în zona dată, inclusiv cele concurente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care sunt facilităţile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existenţa parcărilor etc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Picture 4" descr="BS00393_"/>
          <p:cNvPicPr/>
          <p:nvPr/>
        </p:nvPicPr>
        <p:blipFill>
          <a:blip r:embed="rId1"/>
          <a:stretch/>
        </p:blipFill>
        <p:spPr>
          <a:xfrm>
            <a:off x="6324480" y="4122720"/>
            <a:ext cx="2438640" cy="19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o-RO" sz="33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Modulul 3. Planul operaţional</a:t>
            </a:r>
            <a:br>
              <a:rPr sz="3300"/>
            </a:b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68360" y="2017440"/>
            <a:ext cx="8486640" cy="177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100" spc="-1" strike="noStrike">
                <a:solidFill>
                  <a:srgbClr val="000000"/>
                </a:solidFill>
                <a:latin typeface="Calibri"/>
              </a:rPr>
              <a:t>3.1 Descrierea procesului tehnologic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100" spc="-1" strike="noStrike">
                <a:solidFill>
                  <a:srgbClr val="000000"/>
                </a:solidFill>
                <a:latin typeface="Calibri"/>
              </a:rPr>
              <a:t>3.2 Schema fizică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100" spc="-1" strike="noStrike">
                <a:solidFill>
                  <a:srgbClr val="000000"/>
                </a:solidFill>
                <a:latin typeface="Calibri"/>
              </a:rPr>
              <a:t>3.3 Necesarul de spatiu echipament, consumabile şi costurile acestora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100" spc="-1" strike="noStrike">
                <a:solidFill>
                  <a:srgbClr val="000000"/>
                </a:solidFill>
                <a:latin typeface="Calibri"/>
              </a:rPr>
              <a:t>3.4 Furnizorii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Picture 2" descr="Image result for ce este procesul de producere al unei afaceri&quot;"/>
          <p:cNvPicPr/>
          <p:nvPr/>
        </p:nvPicPr>
        <p:blipFill>
          <a:blip r:embed="rId1"/>
          <a:stretch/>
        </p:blipFill>
        <p:spPr>
          <a:xfrm>
            <a:off x="995400" y="3789360"/>
            <a:ext cx="7321680" cy="25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PPT - PLANUL DE AFACERI PowerPoint Presentation, free download ...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468360" y="260280"/>
          <a:ext cx="7991280" cy="5880240"/>
        </p:xfrm>
        <a:graphic>
          <a:graphicData uri="http://schemas.openxmlformats.org/drawingml/2006/table">
            <a:tbl>
              <a:tblPr/>
              <a:tblGrid>
                <a:gridCol w="842760"/>
                <a:gridCol w="2340000"/>
                <a:gridCol w="1722600"/>
                <a:gridCol w="1582560"/>
                <a:gridCol w="1503360"/>
              </a:tblGrid>
              <a:tr h="3193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57276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 gridSpan="4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US" sz="25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Necesarul de capital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516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81612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r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numirea echipamentulu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nit.de masura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ntitate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ț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11040">
                <a:tc>
                  <a:txBody>
                    <a:bodyPr lIns="68760" rIns="68760" tIns="0" bIns="0" anchor="b">
                      <a:noAutofit/>
                    </a:bodyPr>
                    <a:p>
                      <a:pPr marL="228600" indent="-228600">
                        <a:lnSpc>
                          <a:spcPct val="107000"/>
                        </a:lnSpc>
                        <a:buClr>
                          <a:srgbClr val="ffffff"/>
                        </a:buClr>
                        <a:buFont typeface="Calibri Light"/>
                        <a:buChar char="•"/>
                        <a:tabLst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</a:t>
                      </a:r>
                      <a:r>
                        <a:rPr b="0" i="1" lang="ro-RO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ș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a de broda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18960">
                <a:tc>
                  <a:txBody>
                    <a:bodyPr lIns="68760" rIns="68760" tIns="0" bIns="0" anchor="b">
                      <a:noAutofit/>
                    </a:bodyPr>
                    <a:p>
                      <a:pPr marL="228600" indent="-228600">
                        <a:lnSpc>
                          <a:spcPct val="107000"/>
                        </a:lnSpc>
                        <a:buClr>
                          <a:srgbClr val="ffffff"/>
                        </a:buClr>
                        <a:buFont typeface="Calibri Light"/>
                        <a:buChar char="•"/>
                        <a:tabLst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ier de călca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19320">
                <a:tc>
                  <a:txBody>
                    <a:bodyPr lIns="68760" rIns="68760" tIns="0" bIns="0" anchor="b">
                      <a:noAutofit/>
                    </a:bodyPr>
                    <a:p>
                      <a:pPr marL="228600" indent="-228600">
                        <a:lnSpc>
                          <a:spcPct val="107000"/>
                        </a:lnSpc>
                        <a:buClr>
                          <a:srgbClr val="ffffff"/>
                        </a:buClr>
                        <a:buFont typeface="Calibri Light"/>
                        <a:buChar char="•"/>
                        <a:tabLst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să de cro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18960">
                <a:tc>
                  <a:txBody>
                    <a:bodyPr lIns="68760" rIns="68760" tIns="0" bIns="0" anchor="b">
                      <a:noAutofit/>
                    </a:bodyPr>
                    <a:p>
                      <a:pPr marL="228600" indent="-228600">
                        <a:lnSpc>
                          <a:spcPct val="107000"/>
                        </a:lnSpc>
                        <a:buClr>
                          <a:srgbClr val="ffffff"/>
                        </a:buClr>
                        <a:buFont typeface="Calibri Light"/>
                        <a:buChar char="•"/>
                        <a:tabLst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nechi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18960">
                <a:tc>
                  <a:txBody>
                    <a:bodyPr lIns="68760" rIns="68760" tIns="0" bIns="0" anchor="b">
                      <a:noAutofit/>
                    </a:bodyPr>
                    <a:p>
                      <a:pPr marL="228600" indent="-228600">
                        <a:lnSpc>
                          <a:spcPct val="107000"/>
                        </a:lnSpc>
                        <a:buClr>
                          <a:srgbClr val="ffffff"/>
                        </a:buClr>
                        <a:buFont typeface="Calibri Light"/>
                        <a:buChar char="•"/>
                        <a:tabLst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sină de cusu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19320">
                <a:tc>
                  <a:txBody>
                    <a:bodyPr lIns="68760" rIns="68760" tIns="0" bIns="0" anchor="b">
                      <a:noAutofit/>
                    </a:bodyPr>
                    <a:p>
                      <a:pPr marL="228600" indent="-228600">
                        <a:lnSpc>
                          <a:spcPct val="107000"/>
                        </a:lnSpc>
                        <a:buClr>
                          <a:srgbClr val="ffffff"/>
                        </a:buClr>
                        <a:buFont typeface="Calibri Light"/>
                        <a:buChar char="•"/>
                        <a:tabLst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Încălzi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18960">
                <a:tc>
                  <a:txBody>
                    <a:bodyPr lIns="68760" rIns="68760" tIns="0" bIns="0" anchor="b">
                      <a:noAutofit/>
                    </a:bodyPr>
                    <a:p>
                      <a:pPr marL="228600" indent="-228600">
                        <a:lnSpc>
                          <a:spcPct val="107000"/>
                        </a:lnSpc>
                        <a:buClr>
                          <a:srgbClr val="ffffff"/>
                        </a:buClr>
                        <a:buFont typeface="Calibri Light"/>
                        <a:buChar char="•"/>
                        <a:tabLst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ergi electric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18960">
                <a:tc>
                  <a:txBody>
                    <a:bodyPr lIns="68760" rIns="68760" tIns="0" bIns="0" anchor="b">
                      <a:noAutofit/>
                    </a:bodyPr>
                    <a:p>
                      <a:pPr marL="228600" indent="-228600">
                        <a:lnSpc>
                          <a:spcPct val="107000"/>
                        </a:lnSpc>
                        <a:buClr>
                          <a:srgbClr val="ffffff"/>
                        </a:buClr>
                        <a:buFont typeface="Calibri Light"/>
                        <a:buChar char="•"/>
                        <a:tabLst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tent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19320">
                <a:tc>
                  <a:txBody>
                    <a:bodyPr lIns="68760" rIns="68760" tIns="0" bIns="0" anchor="b">
                      <a:noAutofit/>
                    </a:bodyPr>
                    <a:p>
                      <a:pPr marL="228600" indent="-228600">
                        <a:lnSpc>
                          <a:spcPct val="107000"/>
                        </a:lnSpc>
                        <a:buClr>
                          <a:srgbClr val="ffffff"/>
                        </a:buClr>
                        <a:buFont typeface="Calibri Light"/>
                        <a:buChar char="•"/>
                        <a:tabLst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erie prim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18960">
                <a:tc>
                  <a:txBody>
                    <a:bodyPr lIns="68760" rIns="68760" tIns="0" bIns="0" anchor="b">
                      <a:noAutofit/>
                    </a:bodyPr>
                    <a:p>
                      <a:pPr marL="228600" indent="-228600">
                        <a:lnSpc>
                          <a:spcPct val="107000"/>
                        </a:lnSpc>
                        <a:buClr>
                          <a:srgbClr val="ffffff"/>
                        </a:buClr>
                        <a:buFont typeface="Calibri Light"/>
                        <a:buChar char="•"/>
                        <a:tabLst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strument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18960">
                <a:tc>
                  <a:txBody>
                    <a:bodyPr lIns="68760" rIns="68760" tIns="0" bIns="0" anchor="b">
                      <a:noAutofit/>
                    </a:bodyPr>
                    <a:p>
                      <a:pPr marL="228600" indent="-228600">
                        <a:lnSpc>
                          <a:spcPct val="107000"/>
                        </a:lnSpc>
                        <a:buClr>
                          <a:srgbClr val="ffffff"/>
                        </a:buClr>
                        <a:buFont typeface="Calibri Light"/>
                        <a:buChar char="•"/>
                        <a:tabLst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ațiu 20 m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3516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 gridSpan="4"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, le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26920" y="475920"/>
            <a:ext cx="7793280" cy="55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o-RO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o-RO" sz="3200" spc="-1" strike="noStrike">
                <a:solidFill>
                  <a:srgbClr val="c00000"/>
                </a:solidFill>
                <a:latin typeface="Times New Roman"/>
              </a:rPr>
              <a:t>Ce reprezintă un plan de afaceri?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755280" y="1341000"/>
            <a:ext cx="8064360" cy="465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71360" indent="-171360"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en-US" sz="1600" spc="-1" strike="noStrike">
                <a:solidFill>
                  <a:srgbClr val="954f72"/>
                </a:solidFill>
                <a:latin typeface="Times New Roman"/>
                <a:ea typeface="Times New Roman"/>
              </a:rPr>
              <a:t>       </a:t>
            </a:r>
            <a:r>
              <a:rPr b="1" i="1" lang="ro-RO" sz="1800" spc="-1" strike="noStrike">
                <a:solidFill>
                  <a:srgbClr val="954f72"/>
                </a:solidFill>
                <a:latin typeface="Times New Roman"/>
                <a:ea typeface="Times New Roman"/>
              </a:rPr>
              <a:t>Planul de afaceri este un document confidenţial</a:t>
            </a:r>
            <a:r>
              <a:rPr b="1" i="1" lang="en-US" sz="1800" spc="-1" strike="noStrike">
                <a:solidFill>
                  <a:srgbClr val="954f72"/>
                </a:solidFill>
                <a:latin typeface="Times New Roman"/>
                <a:ea typeface="Times New Roman"/>
              </a:rPr>
              <a:t> </a:t>
            </a:r>
            <a:r>
              <a:rPr b="1" i="1" lang="ro-RO" sz="1800" spc="-1" strike="noStrike">
                <a:solidFill>
                  <a:srgbClr val="954f72"/>
                </a:solidFill>
                <a:latin typeface="Times New Roman"/>
                <a:ea typeface="Times New Roman"/>
              </a:rPr>
              <a:t>în care sunt scrise obiectivele şi</a:t>
            </a:r>
            <a:r>
              <a:rPr b="1" i="1" lang="en-US" sz="1800" spc="-1" strike="noStrike">
                <a:solidFill>
                  <a:srgbClr val="954f72"/>
                </a:solidFill>
                <a:latin typeface="Times New Roman"/>
                <a:ea typeface="Times New Roman"/>
              </a:rPr>
              <a:t> </a:t>
            </a:r>
            <a:r>
              <a:rPr b="1" i="1" lang="ro-RO" sz="1800" spc="-1" strike="noStrike">
                <a:solidFill>
                  <a:srgbClr val="954f72"/>
                </a:solidFill>
                <a:latin typeface="Times New Roman"/>
                <a:ea typeface="Times New Roman"/>
              </a:rPr>
              <a:t>scopurile întreprinderii demonstrându-se în detalii modalităţile de realizare a acestora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are sunt etapele de întocmire a unui plan </a:t>
            </a:r>
            <a:r>
              <a:rPr b="1" lang="ro-RO" sz="1800" spc="-1" strike="noStrike">
                <a:solidFill>
                  <a:srgbClr val="000000"/>
                </a:solidFill>
                <a:latin typeface="Times New Roman"/>
              </a:rPr>
              <a:t>de afaceri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just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Times New Roman"/>
              </a:rPr>
              <a:t>Cole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tarea informaţie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terminarea tipului planului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bilirea structurii planulu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just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Times New Roman"/>
              </a:rPr>
              <a:t>Împărţirea responsabilităţil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 ce informaţie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inter, extern)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vem nevoie pentru a </a:t>
            </a:r>
            <a:r>
              <a:rPr b="1" lang="ro-RO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întocmi un plan de afaceri </a:t>
            </a:r>
            <a:r>
              <a:rPr b="1" lang="ro-RO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Times New Roman"/>
              </a:rPr>
              <a:t>Piaţ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Times New Roman"/>
              </a:rPr>
              <a:t>Clienţi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Times New Roman"/>
              </a:rPr>
              <a:t>Concurenţi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Times New Roman"/>
              </a:rPr>
              <a:t>Procesul de producţi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Times New Roman"/>
              </a:rPr>
              <a:t>Capacitatea de producţi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o-RO" sz="3800" spc="-1" strike="noStrike">
                <a:solidFill>
                  <a:srgbClr val="c00000"/>
                </a:solidFill>
                <a:latin typeface="Calibri Light"/>
              </a:rPr>
              <a:t>Beneficiile PA</a:t>
            </a:r>
            <a:endParaRPr b="0" lang="en-US" sz="3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395280" y="1557360"/>
            <a:ext cx="842472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100" spc="-1" strike="noStrike">
                <a:solidFill>
                  <a:srgbClr val="000000"/>
                </a:solidFill>
                <a:latin typeface="Calibri"/>
              </a:rPr>
              <a:t>1 Dacă obiectivele afacerii sunt CLARE, ele sunt CLARE pentru toată lumea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100" spc="-1" strike="noStrike">
                <a:solidFill>
                  <a:srgbClr val="000000"/>
                </a:solidFill>
                <a:latin typeface="Calibri"/>
              </a:rPr>
              <a:t>2. Știi EXACT care sutn prioritățile și asta știi TOT TIMPUL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100" spc="-1" strike="noStrike">
                <a:solidFill>
                  <a:srgbClr val="000000"/>
                </a:solidFill>
                <a:latin typeface="Calibri"/>
              </a:rPr>
              <a:t>3. ȘTII EXACT cui și CE să delegi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100" spc="-1" strike="noStrike">
                <a:solidFill>
                  <a:srgbClr val="000000"/>
                </a:solidFill>
                <a:latin typeface="Calibri"/>
              </a:rPr>
              <a:t>4. Poți măsura eficența membrilor ECHIPEI tale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100" spc="-1" strike="noStrike">
                <a:solidFill>
                  <a:srgbClr val="000000"/>
                </a:solidFill>
                <a:latin typeface="Calibri"/>
              </a:rPr>
              <a:t>5. Îți poți controla CASH FLOW-UL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100" spc="-1" strike="noStrike">
                <a:solidFill>
                  <a:srgbClr val="000000"/>
                </a:solidFill>
                <a:latin typeface="Calibri"/>
              </a:rPr>
              <a:t>6. Contrlezi mesajele de comunicare cu CLIENȚII tăi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100" spc="-1" strike="noStrike">
                <a:solidFill>
                  <a:srgbClr val="000000"/>
                </a:solidFill>
                <a:latin typeface="Calibri"/>
              </a:rPr>
              <a:t>7. Ești ATRACTIV pentru investitori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100" spc="-1" strike="noStrike">
                <a:solidFill>
                  <a:srgbClr val="000000"/>
                </a:solidFill>
                <a:latin typeface="Calibri"/>
              </a:rPr>
              <a:t>8. Compari ușor EFORTURILE cu REZULTATELE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100" spc="-1" strike="noStrike">
                <a:solidFill>
                  <a:srgbClr val="000000"/>
                </a:solidFill>
                <a:latin typeface="Calibri"/>
              </a:rPr>
              <a:t>9. Știi ca capătul unui an financiar ce MERGE și ce NU MERGE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100" spc="-1" strike="noStrike">
                <a:solidFill>
                  <a:srgbClr val="000000"/>
                </a:solidFill>
                <a:latin typeface="Calibri"/>
              </a:rPr>
              <a:t>10. În baza planului de afaceri pot trasa noi OBIECTIVE penrtu anul următor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100" spc="-1" strike="noStrike">
                <a:solidFill>
                  <a:srgbClr val="000000"/>
                </a:solidFill>
                <a:latin typeface="Calibri"/>
              </a:rPr>
              <a:t>11. Cu timpul devii un EXPERT, care poate veni cu consultanță sau suport pentru alți antreprenori la început de drum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o-RO" sz="3800" spc="-1" strike="noStrike">
                <a:solidFill>
                  <a:srgbClr val="c00000"/>
                </a:solidFill>
                <a:latin typeface="Calibri Light"/>
              </a:rPr>
              <a:t>6 zone principale ale unui PA</a:t>
            </a:r>
            <a:br>
              <a:rPr sz="3800"/>
            </a:br>
            <a:r>
              <a:rPr b="1" lang="ro-RO" sz="3800" spc="-1" strike="noStrike">
                <a:solidFill>
                  <a:srgbClr val="c00000"/>
                </a:solidFill>
                <a:latin typeface="Calibri Light"/>
              </a:rPr>
              <a:t>1. Sumarul </a:t>
            </a:r>
            <a:endParaRPr b="0" lang="en-US" sz="38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60" name="Picture 2" descr="How to Write a Summary Essay | AcademicHelp.net"/>
          <p:cNvPicPr/>
          <p:nvPr/>
        </p:nvPicPr>
        <p:blipFill>
          <a:blip r:embed="rId1"/>
          <a:stretch/>
        </p:blipFill>
        <p:spPr>
          <a:xfrm>
            <a:off x="2195640" y="1957320"/>
            <a:ext cx="5545080" cy="428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o-RO" sz="3800" spc="-1" strike="noStrike">
                <a:solidFill>
                  <a:srgbClr val="c00000"/>
                </a:solidFill>
                <a:latin typeface="Calibri Light"/>
              </a:rPr>
              <a:t>2. Oportunitatea </a:t>
            </a:r>
            <a:endParaRPr b="0" lang="en-US" sz="38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62" name="Picture 2" descr="The Multi-Cloud Opportunity and Challenge -"/>
          <p:cNvPicPr/>
          <p:nvPr/>
        </p:nvPicPr>
        <p:blipFill>
          <a:blip r:embed="rId1"/>
          <a:stretch/>
        </p:blipFill>
        <p:spPr>
          <a:xfrm>
            <a:off x="628560" y="1946160"/>
            <a:ext cx="7886880" cy="411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68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o-RO" sz="3800" spc="-1" strike="noStrike">
                <a:solidFill>
                  <a:srgbClr val="c00000"/>
                </a:solidFill>
                <a:latin typeface="Calibri Light"/>
              </a:rPr>
              <a:t>Elemente ale oportunității </a:t>
            </a:r>
            <a:endParaRPr b="0" lang="en-US" sz="3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68000" y="1052640"/>
            <a:ext cx="835164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2500" spc="-1" strike="noStrike">
                <a:solidFill>
                  <a:srgbClr val="000000"/>
                </a:solidFill>
                <a:latin typeface="Calibri"/>
              </a:rPr>
              <a:t>Ce problemă rezolvă produsul/serviciul tău în piața pe care te prezinți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500" spc="-1" strike="noStrike">
                <a:solidFill>
                  <a:srgbClr val="000000"/>
                </a:solidFill>
                <a:latin typeface="Calibri"/>
              </a:rPr>
              <a:t>Care este clientul tău țintă și care este rata de adopțti sau cota de piață spre care tinzi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o-RO" sz="2500" spc="-1" strike="noStrike">
                <a:solidFill>
                  <a:srgbClr val="000000"/>
                </a:solidFill>
                <a:latin typeface="Calibri"/>
              </a:rPr>
              <a:t>Care este potențialul produsului tău în piață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500" spc="-1" strike="noStrike">
                <a:solidFill>
                  <a:srgbClr val="000000"/>
                </a:solidFill>
                <a:latin typeface="Calibri"/>
              </a:rPr>
              <a:t>Care este diferențirea ta fașă de competiția existentă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o-RO" sz="2500" spc="-1" strike="noStrike">
                <a:solidFill>
                  <a:srgbClr val="000000"/>
                </a:solidFill>
                <a:latin typeface="Calibri"/>
              </a:rPr>
              <a:t>Ce va trebi să faci/facă echipa ta pentru a cuceri piața</a:t>
            </a:r>
            <a:r>
              <a:rPr b="0" lang="ro-RO" sz="25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100" spc="-1" strike="noStrike">
                <a:solidFill>
                  <a:srgbClr val="c00000"/>
                </a:solidFill>
                <a:latin typeface="Calibri"/>
              </a:rPr>
              <a:t>Dacă clarifici aceste aspecte, spune că afacere ta capătă formă!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o-RO" sz="3800" spc="-1" strike="noStrike">
                <a:solidFill>
                  <a:srgbClr val="c00000"/>
                </a:solidFill>
                <a:latin typeface="Calibri Light"/>
              </a:rPr>
              <a:t>Ecxecuția </a:t>
            </a:r>
            <a:endParaRPr b="0" lang="en-US" sz="3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628560" y="1825200"/>
            <a:ext cx="7886880" cy="469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o-RO" sz="2500" spc="-1" strike="noStrike">
                <a:solidFill>
                  <a:srgbClr val="000000"/>
                </a:solidFill>
                <a:latin typeface="Calibri"/>
              </a:rPr>
              <a:t>MVP (produsul minim valabil - </a:t>
            </a:r>
            <a:r>
              <a:rPr b="1" lang="ro-MD" sz="2500" spc="-1" strike="noStrike">
                <a:solidFill>
                  <a:srgbClr val="000000"/>
                </a:solidFill>
                <a:latin typeface="Calibri"/>
              </a:rPr>
              <a:t>Să testăm prototipul, să avem feedback de la clienți si să analizăm satisfacția clienților.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MD" sz="2500" spc="-1" strike="noStrike">
                <a:solidFill>
                  <a:srgbClr val="000000"/>
                </a:solidFill>
                <a:latin typeface="Calibri"/>
              </a:rPr>
              <a:t>Planul de v</a:t>
            </a:r>
            <a:r>
              <a:rPr b="0" lang="ro-RO" sz="2500" spc="-1" strike="noStrike">
                <a:solidFill>
                  <a:srgbClr val="000000"/>
                </a:solidFill>
                <a:latin typeface="Calibri"/>
              </a:rPr>
              <a:t>â</a:t>
            </a:r>
            <a:r>
              <a:rPr b="0" lang="ro-MD" sz="2500" spc="-1" strike="noStrike">
                <a:solidFill>
                  <a:srgbClr val="000000"/>
                </a:solidFill>
                <a:latin typeface="Calibri"/>
              </a:rPr>
              <a:t>nzîri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MD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MD" sz="2500" spc="-1" strike="noStrike">
                <a:solidFill>
                  <a:srgbClr val="000000"/>
                </a:solidFill>
                <a:latin typeface="Calibri"/>
              </a:rPr>
              <a:t>Plan de marketing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MD" sz="2500" spc="-1" strike="noStrike">
                <a:solidFill>
                  <a:srgbClr val="000000"/>
                </a:solidFill>
                <a:latin typeface="Calibri"/>
              </a:rPr>
              <a:t>Identitatea Brandului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o-MD" sz="2500" spc="-1" strike="noStrike">
                <a:solidFill>
                  <a:srgbClr val="000000"/>
                </a:solidFill>
                <a:latin typeface="Calibri"/>
              </a:rPr>
              <a:t>Planul operațional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MD" sz="2500" spc="-1" strike="noStrike">
                <a:solidFill>
                  <a:srgbClr val="000000"/>
                </a:solidFill>
                <a:latin typeface="Calibri"/>
              </a:rPr>
              <a:t>Indicatorii urmăriți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MD" sz="2500" spc="-1" strike="noStrike">
                <a:solidFill>
                  <a:srgbClr val="000000"/>
                </a:solidFill>
                <a:latin typeface="Calibri"/>
              </a:rPr>
              <a:t>Această zonă îți permite să vezi dacă produsul tău are relevanță în viața clientului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14T06:46:29Z</dcterms:created>
  <dc:creator>Station2</dc:creator>
  <dc:description/>
  <dc:language>en-US</dc:language>
  <cp:lastModifiedBy>User</cp:lastModifiedBy>
  <cp:lastPrinted>2019-08-07T11:47:17Z</cp:lastPrinted>
  <dcterms:modified xsi:type="dcterms:W3CDTF">2021-09-23T11:16:05Z</dcterms:modified>
  <cp:revision>125</cp:revision>
  <dc:subject/>
  <dc:title>PLANIFICAREA AFACERII</dc:title>
</cp:coreProperties>
</file>