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A8904-0041-4162-84A7-2F334C6B57F0}"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8C52FAF-22B2-4C16-87DB-49164B7B8163}"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5"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A1B67C3-A6DF-4F4F-B6DB-C5EFC6D1BD89}"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6" name="PlaceHolder 1"/>
          <p:cNvSpPr>
            <a:spLocks noGrp="1"/>
          </p:cNvSpPr>
          <p:nvPr>
            <p:ph type="sldImg"/>
          </p:nvPr>
        </p:nvSpPr>
        <p:spPr>
          <a:xfrm>
            <a:off x="914400" y="744480"/>
            <a:ext cx="4959360" cy="3721320"/>
          </a:xfrm>
          <a:prstGeom prst="rect">
            <a:avLst/>
          </a:prstGeom>
          <a:ln w="0">
            <a:noFill/>
          </a:ln>
        </p:spPr>
      </p:sp>
      <p:sp>
        <p:nvSpPr>
          <p:cNvPr id="157"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F44D3-D7B3-4EFE-B69E-840CE3EE0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C2396-B0DC-4286-ADFF-42C4ADA2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DEB32-3DA3-4E45-A9B8-188268E8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EFD12-F33E-46C0-9628-5EE863CAB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D9C1A-521E-4D01-96E7-99349474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07A8D-DF91-47FF-8A3E-6F7895D9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B8915-FA16-45A7-ADC5-30FBB15D3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6D60A-047E-458D-82F9-AE7EC1871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FC23-4078-4DB7-AEA3-A2FE5B661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5F56-D801-40CE-B31D-B9FEDCA5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D5FD-3D31-48CB-BBB7-4B8DB675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1F0F-37E8-427D-9EAD-92F142A8C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17C8-D906-4AAD-956F-0B09AFAC719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8000" y="282600"/>
            <a:ext cx="9024840" cy="605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68360" y="3273480"/>
            <a:ext cx="8358120" cy="271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600" spc="-1" strike="noStrike">
                <a:solidFill>
                  <a:srgbClr val="000000"/>
                </a:solidFill>
                <a:latin typeface="Times New Roman"/>
                <a:ea typeface="Times New Roman"/>
              </a:rPr>
              <a:t>Comunicarea eficient</a:t>
            </a:r>
            <a:r>
              <a:rPr b="1" lang="ro-RO" sz="3600" spc="-1" strike="noStrike">
                <a:solidFill>
                  <a:srgbClr val="000000"/>
                </a:solidFill>
                <a:latin typeface="Times New Roman"/>
                <a:ea typeface="Times New Roman"/>
              </a:rPr>
              <a:t>ă cu partenerii:</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3600" spc="-1" strike="noStrike">
                <a:solidFill>
                  <a:srgbClr val="000000"/>
                </a:solidFill>
                <a:latin typeface="Times New Roman"/>
                <a:ea typeface="Times New Roman"/>
              </a:rPr>
              <a:t>efect, impact, rezultat și beneficii reciproce </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36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ceptul de comunicare </a:t>
            </a:r>
            <a:r>
              <a:rPr b="1" lang="ro-RO" sz="4000" spc="-1" strike="noStrike">
                <a:solidFill>
                  <a:srgbClr val="000000"/>
                </a:solidFill>
                <a:latin typeface="Calibri"/>
              </a:rPr>
              <a:t>și </a:t>
            </a:r>
            <a:r>
              <a:rPr b="1" lang="en-US" sz="4000" spc="-1" strike="noStrike">
                <a:solidFill>
                  <a:srgbClr val="000000"/>
                </a:solidFill>
                <a:latin typeface="Calibri"/>
              </a:rPr>
              <a:t>impactul acestui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77CA-DA13-4993-BB25-ECFCC1E3467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27D2-6003-4CA7-B3E1-06A811870E6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1" name="Picture 2" descr="Hand holding coins and plant as a symbol for social innovation"/>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bilitatea de a putea comunica eficient si clar ideile si sentimentele pe care le avem ne diferentiaza pe scara evolutiei ca rasa dominanta a planete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iar si in lumea corporativa de astazi, pe masura ce afacerile se lupta sa detina suprematia pe piata, comunicarea este cheia ce ajuta la construirea unei echipe puternice care sa propulseze afacerea catre primul lo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5577-E494-4E7A-9C68-87BB88A7482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417320"/>
            <a:ext cx="8229600" cy="470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Benefici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construirea unei echipe bune</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st lucru necesita un lider care comunica cu fiecare individ in parte. Este nevoie de atentie personala acordata fiecarui membru al echipei, in asa fel incat sa existe intelegere si  productivitate maxima.</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44D6-0181-4E36-B2A6-8247E8C1EF4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imbunatatirea procesului de afacer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ci un proces nu este perfect si tot timpul exista loc de imbunatatire. Exista departamente diverse ce trebuie sa lucreze impreuna pentru a putea realiza un produs finit final. Daca canalele de comunicare sunt pastrate deschise si se realizeaza periodic sedinte in care sunt discutate toate problemele, procesul este eficientiz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DB41-8C98-41BB-B37B-9F53F3FF4E5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Se creaza o atmosfera pozi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unicarea intre membrii echipei nu ajuta doar la consolidarea acesteia, ci si la rezolvarea mai rapida a problemelor, fara sa se creeze frictiuni si neintelegeri datorate comunicarii improprii</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0C3F-BDCD-4C7A-96A4-92765F74AF0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Interactiunea cu clientii aduce beneficii vanzarilor si profituril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 modele de comunicare eficiente care stabilesc canale de interactiune cu clientii, departamentele de marketing si de vanzari pot implementa o abordare mai concentrata, care pe termen lung va aduce doar profituri si benefici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8012-2D9B-4B3F-8DE2-9C6D6E16157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197000"/>
            <a:ext cx="8229600" cy="49291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Î</a:t>
            </a:r>
            <a:r>
              <a:rPr b="0" lang="en-US" sz="3200" spc="-1" strike="noStrike">
                <a:solidFill>
                  <a:srgbClr val="000000"/>
                </a:solidFill>
                <a:latin typeface="Calibri"/>
              </a:rPr>
              <a:t>n orice aspect legat de o afacere</a:t>
            </a:r>
            <a:r>
              <a:rPr b="0" lang="ro-RO" sz="3200" spc="-1" strike="noStrike">
                <a:solidFill>
                  <a:srgbClr val="000000"/>
                </a:solidFill>
                <a:latin typeface="Calibri"/>
              </a:rPr>
              <a:t>  </a:t>
            </a:r>
            <a:r>
              <a:rPr b="0" lang="en-US" sz="3200" spc="-1" strike="noStrike">
                <a:solidFill>
                  <a:srgbClr val="000000"/>
                </a:solidFill>
                <a:latin typeface="Calibri"/>
              </a:rPr>
              <a:t>comunicarea este esentiala. Reprezinta cheia catre imbunatatirea cooperarii si intelegerii. Cu ajutorul comunicarii eficiente orice echipa poate face adevarate minuni si poate veni cu solutii inovative care sa ofere un avantaj fata de concuren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omunicarea eficienta trebuie incurajata in orice organizatie sau afacere, pentru maximizarea beneficiilor.</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A4C1-2F56-432D-B2C1-0F034D26916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Cum să-ți construiești povestea</a:t>
            </a:r>
            <a:endParaRPr b="0" lang="en-US" sz="4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A063-E468-4CF9-9D26-1D0C5EB0AFE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tr-o companie, comunicarea în afaceri ocupă un loc important şi acoperă o gamă largă de domenii, cum ar fi marketingul şi relaţiile publice, branding şi organizarea evenimentelor, până la subiecte care sunt într-un anumit mod legate de cultura organizațională.</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42DC-E607-47E3-BB3B-328488D217E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Instrumente eficiente pentru a atrage investiții de impact</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E009-C96C-4D06-8986-E7543760C36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Procesul presupu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izia de a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difica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t</a:t>
            </a:r>
            <a:r>
              <a:rPr b="0" lang="en-US" sz="3200" spc="-1" strike="noStrike">
                <a:solidFill>
                  <a:srgbClr val="000000"/>
                </a:solidFill>
                <a:latin typeface="Calibri"/>
              </a:rPr>
              <a:t>rimite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analul prin care se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odificarea mesajului de către recept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r</a:t>
            </a:r>
            <a:r>
              <a:rPr b="0" lang="en-US" sz="3200" spc="-1" strike="noStrike">
                <a:solidFill>
                  <a:srgbClr val="000000"/>
                </a:solidFill>
                <a:latin typeface="Calibri"/>
              </a:rPr>
              <a:t>eacţia acestuia la mesajul trimis</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7CC3-55F3-47E0-BE15-21453542289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Body &amp; Speech: Cum să îți prezinț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7323-9114-4138-ABE1-6D481131568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i privind trimiterea eficientă a</a:t>
            </a:r>
            <a:r>
              <a:rPr b="0" lang="ro-RO" sz="3200" spc="-1" strike="noStrike">
                <a:solidFill>
                  <a:srgbClr val="000000"/>
                </a:solidFill>
                <a:latin typeface="Calibri"/>
              </a:rPr>
              <a:t> </a:t>
            </a:r>
            <a:r>
              <a:rPr b="0" lang="en-US" sz="3200" spc="-1" strike="noStrike">
                <a:solidFill>
                  <a:srgbClr val="000000"/>
                </a:solidFill>
                <a:latin typeface="Calibri"/>
              </a:rPr>
              <a:t>mesajelor</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direc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sumate de către emiţăt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omplete şi specifi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lare şi să prezinte o compatibilitate intern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 mesaj trebuie să se facă o diferenţă clară între fapte reale şi</a:t>
            </a:r>
            <a:r>
              <a:rPr b="0" lang="ro-RO" sz="2800" spc="-1" strike="noStrike">
                <a:solidFill>
                  <a:srgbClr val="000000"/>
                </a:solidFill>
                <a:latin typeface="Calibri"/>
              </a:rPr>
              <a:t> </a:t>
            </a:r>
            <a:r>
              <a:rPr b="0" lang="en-US" sz="2800" spc="-1" strike="noStrike">
                <a:solidFill>
                  <a:srgbClr val="000000"/>
                </a:solidFill>
                <a:latin typeface="Calibri"/>
              </a:rPr>
              <a:t>opinia personală;</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E7C0-A0B4-46D8-A0E8-8C89BBB2A5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e axeze pe o singură</a:t>
            </a:r>
            <a:r>
              <a:rPr b="0" lang="ro-RO" sz="2800" spc="-1" strike="noStrike">
                <a:solidFill>
                  <a:srgbClr val="000000"/>
                </a:solidFill>
                <a:latin typeface="Calibri"/>
              </a:rPr>
              <a:t> </a:t>
            </a:r>
            <a:r>
              <a:rPr b="0" lang="en-US" sz="2800" spc="-1" strike="noStrike">
                <a:solidFill>
                  <a:srgbClr val="000000"/>
                </a:solidFill>
                <a:latin typeface="Calibri"/>
              </a:rPr>
              <a:t>problem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transmise imedi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timuleze, să fie</a:t>
            </a:r>
            <a:r>
              <a:rPr b="0" lang="ro-RO" sz="2800" spc="-1" strike="noStrike">
                <a:solidFill>
                  <a:srgbClr val="000000"/>
                </a:solidFill>
                <a:latin typeface="Calibri"/>
              </a:rPr>
              <a:t> </a:t>
            </a:r>
            <a:r>
              <a:rPr b="0" lang="en-US" sz="2800" spc="-1" strike="noStrike">
                <a:solidFill>
                  <a:srgbClr val="000000"/>
                </a:solidFill>
                <a:latin typeface="Calibri"/>
              </a:rPr>
              <a:t>încurajatoar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verbale trebuie să coincidă cu cele nonverba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redundan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daptat la cadrul de referinţă al receptorulu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7B69-D45C-4093-9CAB-F9FD84FF5FF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      Comunicare: Cum să</a:t>
            </a:r>
            <a:r>
              <a:rPr b="1" lang="ro-RO" sz="4000" spc="-1" strike="noStrike">
                <a:solidFill>
                  <a:srgbClr val="000000"/>
                </a:solidFill>
                <a:latin typeface="Calibri"/>
              </a:rPr>
              <a:t>-ț</a:t>
            </a:r>
            <a:r>
              <a:rPr b="1" lang="en-US" sz="4000" spc="-1" strike="noStrike">
                <a:solidFill>
                  <a:srgbClr val="000000"/>
                </a:solidFill>
                <a:latin typeface="Calibri"/>
              </a:rPr>
              <a:t>i  susți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DBC5-027E-41A9-AEFA-718D7D439C9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indiferent că vrei să-ți seduci clienții sau vrei să-i inspiri și câștigi pe termen lung, comunicarea are nevoie de PROVOCARE. Este important să fii creativ pentru a genera o mare atracție, pentru a genera lead-uri și mai mulți clienți mulțumiți.</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24C4-A0B2-4031-946C-D5D1DE7F979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      Principalele elemente necesare evocării simțurilor</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BE24-0B9E-45D8-9CB2-1308F0B5477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549000"/>
            <a:ext cx="8229600" cy="557676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800" spc="-1" strike="noStrike">
                <a:solidFill>
                  <a:srgbClr val="000000"/>
                </a:solidFill>
                <a:latin typeface="Calibri"/>
              </a:rPr>
              <a:t>Comunicarea principiilor, ideilor şi direcţiilor trebuie să se facă constan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Feedbackul e o formă specifică de trimitere a mesajelor. Antrenorii trebuie să recepţioneze feedbackul în mod core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Ascultarea este o componentă esenţială a comunicări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mponentele comunicării nonverbale sunt: kinezica (limbajul corpului), proxemica (relaţiile spaţiale), paralimbajul (felul în care sunt rostite cuvintele: tonul vocii, ritmul vorbirii,articularea).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nfruntările directe reprezintă un mod de soluţionare a conflictului.</a:t>
            </a:r>
            <a:endParaRPr b="0" lang="en-US" sz="28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E128-4C83-457A-A6E6-DD96B8E9298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Tehnici privind  convingerea  prin limbajul corporal</a:t>
            </a:r>
            <a:endParaRPr b="0" lang="en-US" sz="4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4E46-5C8D-4EB1-A9A8-D41330B0618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 trebuie abordată o</a:t>
            </a:r>
            <a:r>
              <a:rPr b="0" lang="ro-RO" sz="3200" spc="-1" strike="noStrike">
                <a:solidFill>
                  <a:srgbClr val="000000"/>
                </a:solidFill>
                <a:latin typeface="Calibri"/>
              </a:rPr>
              <a:t> </a:t>
            </a:r>
            <a:r>
              <a:rPr b="0" lang="en-US" sz="3200" spc="-1" strike="noStrike">
                <a:solidFill>
                  <a:srgbClr val="000000"/>
                </a:solidFill>
                <a:latin typeface="Calibri"/>
              </a:rPr>
              <a:t>confruntare directă</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Gândiţi-vă. Emoţia de moment nu trebuie</a:t>
            </a:r>
            <a:r>
              <a:rPr b="0" lang="ro-RO" sz="3200" spc="-1" strike="noStrike">
                <a:solidFill>
                  <a:srgbClr val="000000"/>
                </a:solidFill>
                <a:latin typeface="Calibri"/>
              </a:rPr>
              <a:t> </a:t>
            </a:r>
            <a:r>
              <a:rPr b="0" lang="en-US" sz="3200" spc="-1" strike="noStrike">
                <a:solidFill>
                  <a:srgbClr val="000000"/>
                </a:solidFill>
                <a:latin typeface="Calibri"/>
              </a:rPr>
              <a:t>să vă afecteze capacitatea de a gând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ţelegeţi. Manifestaţi empatie, încercaţi să</a:t>
            </a:r>
            <a:r>
              <a:rPr b="0" lang="ro-RO" sz="3200" spc="-1" strike="noStrike">
                <a:solidFill>
                  <a:srgbClr val="000000"/>
                </a:solidFill>
                <a:latin typeface="Calibri"/>
              </a:rPr>
              <a:t> </a:t>
            </a:r>
            <a:r>
              <a:rPr b="0" lang="en-US" sz="3200" spc="-1" strike="noStrike">
                <a:solidFill>
                  <a:srgbClr val="000000"/>
                </a:solidFill>
                <a:latin typeface="Calibri"/>
              </a:rPr>
              <a:t>înţelegeţi punctul de vedere al</a:t>
            </a:r>
            <a:r>
              <a:rPr b="0" lang="ro-RO" sz="3200" spc="-1" strike="noStrike">
                <a:solidFill>
                  <a:srgbClr val="000000"/>
                </a:solidFill>
                <a:latin typeface="Calibri"/>
              </a:rPr>
              <a:t> </a:t>
            </a:r>
            <a:r>
              <a:rPr b="0" lang="en-US" sz="3200" spc="-1" strike="noStrike">
                <a:solidFill>
                  <a:srgbClr val="000000"/>
                </a:solidFill>
                <a:latin typeface="Calibri"/>
              </a:rPr>
              <a:t>oponent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Fiţi calm şi prudent</a:t>
            </a:r>
            <a:r>
              <a:rPr b="0" lang="ro-RO" sz="3200" spc="-1" strike="noStrike">
                <a:solidFill>
                  <a:srgbClr val="000000"/>
                </a:solidFill>
                <a:latin typeface="Calibri"/>
              </a:rPr>
              <a:t>. </a:t>
            </a:r>
            <a:r>
              <a:rPr b="0" lang="en-US" sz="3200" spc="-1" strike="noStrike">
                <a:solidFill>
                  <a:srgbClr val="000000"/>
                </a:solidFill>
                <a:latin typeface="Calibri"/>
              </a:rPr>
              <a:t>Procedaţi în mod gradual. Abordaţi</a:t>
            </a:r>
            <a:r>
              <a:rPr b="0" lang="ro-RO" sz="3200" spc="-1" strike="noStrike">
                <a:solidFill>
                  <a:srgbClr val="000000"/>
                </a:solidFill>
                <a:latin typeface="Calibri"/>
              </a:rPr>
              <a:t> </a:t>
            </a:r>
            <a:r>
              <a:rPr b="0" lang="en-US" sz="3200" spc="-1" strike="noStrike">
                <a:solidFill>
                  <a:srgbClr val="000000"/>
                </a:solidFill>
                <a:latin typeface="Calibri"/>
              </a:rPr>
              <a:t>problema gradu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114FA-9D34-4B5E-B321-038F511510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
          <p:cNvSpPr txBox="1"/>
          <p:nvPr/>
        </p:nvSpPr>
        <p:spPr>
          <a:xfrm>
            <a:off x="456840" y="2330280"/>
            <a:ext cx="8435880" cy="3562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reguli care să-ți fie de ajutor pentru a transmite mesajul potrivit atunci când vorbești cu clienții, partenerii de afaceri sau angajații</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5497-559B-476C-AD20-91189B9B5DE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hnici de persuasiune</a:t>
            </a:r>
            <a:endParaRPr b="0" lang="en-US" sz="3200" spc="-1" strike="noStrike">
              <a:solidFill>
                <a:srgbClr val="000000"/>
              </a:solidFill>
              <a:latin typeface="Calibri"/>
            </a:endParaRPr>
          </a:p>
        </p:txBody>
      </p:sp>
      <p:sp>
        <p:nvSpPr>
          <p:cNvPr id="137" name=""/>
          <p:cNvSpPr txBox="1"/>
          <p:nvPr/>
        </p:nvSpPr>
        <p:spPr>
          <a:xfrm>
            <a:off x="456840" y="1268280"/>
            <a:ext cx="843588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400" spc="-1" strike="noStrike">
                <a:solidFill>
                  <a:srgbClr val="000000"/>
                </a:solidFill>
                <a:latin typeface="Calibri"/>
              </a:rPr>
              <a:t>Tehnica </a:t>
            </a:r>
            <a:r>
              <a:rPr b="1" lang="en-US" sz="2400" spc="-1" strike="noStrike">
                <a:solidFill>
                  <a:srgbClr val="000000"/>
                </a:solidFill>
                <a:latin typeface="Calibri"/>
              </a:rPr>
              <a:t>Piciorul în ușă</a:t>
            </a:r>
            <a:r>
              <a:rPr b="0" lang="en-US" sz="2400" spc="-1" strike="noStrike">
                <a:solidFill>
                  <a:srgbClr val="000000"/>
                </a:solidFill>
                <a:latin typeface="Calibri"/>
              </a:rPr>
              <a:t> (</a:t>
            </a:r>
            <a:r>
              <a:rPr b="0" i="1" lang="en-US" sz="2400" spc="-1" strike="noStrike">
                <a:solidFill>
                  <a:srgbClr val="000000"/>
                </a:solidFill>
                <a:latin typeface="Calibri"/>
              </a:rPr>
              <a:t>Freedman si Fraser</a:t>
            </a:r>
            <a:r>
              <a:rPr b="0" lang="en-US" sz="2400" spc="-1" strike="noStrike">
                <a:solidFill>
                  <a:srgbClr val="000000"/>
                </a:solidFill>
                <a:latin typeface="Calibri"/>
              </a:rPr>
              <a:t>). Cu toate că folosește elemente care țin și de principiul Contrastului, este mai degrabă o tehnică dezvoltată pe Principiul </a:t>
            </a:r>
            <a:r>
              <a:rPr b="0" lang="ro-RO" sz="2400" spc="-1" strike="noStrike">
                <a:solidFill>
                  <a:srgbClr val="000000"/>
                </a:solidFill>
                <a:latin typeface="Calibri"/>
              </a:rPr>
              <a:t> A</a:t>
            </a:r>
            <a:r>
              <a:rPr b="0" lang="en-US" sz="2400" spc="-1" strike="noStrike">
                <a:solidFill>
                  <a:srgbClr val="000000"/>
                </a:solidFill>
                <a:latin typeface="Calibri"/>
              </a:rPr>
              <a:t>ngajamentului. </a:t>
            </a:r>
            <a:br>
              <a:rPr sz="2400"/>
            </a:br>
            <a:r>
              <a:rPr b="0" lang="en-US" sz="2400" spc="-1" strike="noStrike">
                <a:solidFill>
                  <a:srgbClr val="000000"/>
                </a:solidFill>
                <a:latin typeface="Calibri"/>
              </a:rPr>
              <a:t>Tehnica</a:t>
            </a:r>
            <a:r>
              <a:rPr b="1" lang="en-US" sz="2400" spc="-1" strike="noStrike">
                <a:solidFill>
                  <a:srgbClr val="000000"/>
                </a:solidFill>
                <a:latin typeface="Calibri"/>
              </a:rPr>
              <a:t> Bandwagon</a:t>
            </a:r>
            <a:r>
              <a:rPr b="0" lang="en-US" sz="2400" spc="-1" strike="noStrike">
                <a:solidFill>
                  <a:srgbClr val="000000"/>
                </a:solidFill>
                <a:latin typeface="Calibri"/>
              </a:rPr>
              <a:t>. </a:t>
            </a:r>
            <a:br>
              <a:rPr sz="2400"/>
            </a:br>
            <a:r>
              <a:rPr b="0" lang="en-US" sz="2400" spc="-1" strike="noStrike">
                <a:solidFill>
                  <a:srgbClr val="000000"/>
                </a:solidFill>
                <a:latin typeface="Calibri"/>
              </a:rPr>
              <a:t>Tehnica </a:t>
            </a:r>
            <a:r>
              <a:rPr b="1" lang="en-US" sz="2400" spc="-1" strike="noStrike">
                <a:solidFill>
                  <a:srgbClr val="000000"/>
                </a:solidFill>
                <a:latin typeface="Calibri"/>
              </a:rPr>
              <a:t>Empowerme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ica </a:t>
            </a:r>
            <a:r>
              <a:rPr b="1" lang="en-US" sz="2400" spc="-1" strike="noStrike">
                <a:solidFill>
                  <a:srgbClr val="000000"/>
                </a:solidFill>
                <a:latin typeface="Calibri"/>
              </a:rPr>
              <a:t>Valoare și Valorizar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Early Bird</a:t>
            </a:r>
            <a:r>
              <a:rPr b="0" lang="en-US" sz="2400" spc="-1" strike="noStrike">
                <a:solidFill>
                  <a:srgbClr val="000000"/>
                </a:solidFill>
                <a:latin typeface="Calibri"/>
              </a:rPr>
              <a:t>. Bazată pe principiul penurie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Specialistul</a:t>
            </a:r>
            <a:r>
              <a:rPr b="0" lang="en-US" sz="2400" spc="-1" strike="noStrike">
                <a:solidFill>
                  <a:srgbClr val="000000"/>
                </a:solidFill>
                <a:latin typeface="Calibri"/>
              </a:rPr>
              <a:t> (numită și Autoritatea, tehnică bazată pe Principiul Puterii).</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Preț sau Procen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hnica </a:t>
            </a:r>
            <a:r>
              <a:rPr b="1" lang="es-ES" sz="2400" spc="-1" strike="noStrike">
                <a:solidFill>
                  <a:srgbClr val="000000"/>
                </a:solidFill>
                <a:latin typeface="Calibri"/>
              </a:rPr>
              <a:t>Contrastul este un cârlig bun</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36B7-0987-4ED5-84E6-ECA984D3D60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      Studiu de caz – privind  identificarea principalelor audien</a:t>
            </a:r>
            <a:r>
              <a:rPr b="1" lang="ro-RO" sz="3600" spc="-1" strike="noStrike">
                <a:solidFill>
                  <a:srgbClr val="000000"/>
                </a:solidFill>
                <a:latin typeface="Calibri"/>
              </a:rPr>
              <a:t>ț</a:t>
            </a:r>
            <a:r>
              <a:rPr b="1" lang="en-US" sz="3600" spc="-1" strike="noStrike">
                <a:solidFill>
                  <a:srgbClr val="000000"/>
                </a:solidFill>
                <a:latin typeface="Calibri"/>
              </a:rPr>
              <a:t>e țintă și comunicarea continuă cu acestea prin diferite canale de comunicare, care se întind de la o comunicare individuală până la rețelele de socializare</a:t>
            </a:r>
            <a:endParaRPr b="0" lang="en-US" sz="36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CB5E-D1DE-4A72-8B44-E7E7AA29312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9.      Pregătirea unei discuții </a:t>
            </a:r>
            <a:r>
              <a:rPr b="1" lang="ro-RO" sz="4000" spc="-1" strike="noStrike">
                <a:solidFill>
                  <a:srgbClr val="000000"/>
                </a:solidFill>
                <a:latin typeface="Calibri"/>
              </a:rPr>
              <a:t>î</a:t>
            </a:r>
            <a:r>
              <a:rPr b="1" lang="en-US" sz="4000" spc="-1" strike="noStrike">
                <a:solidFill>
                  <a:srgbClr val="000000"/>
                </a:solidFill>
                <a:latin typeface="Calibri"/>
              </a:rPr>
              <a:t>ntroductivă despre aventura dvs.</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88A9-D113-4D31-A62B-16055D11810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0.  Dezvoltarea unui plan de comunicare pentru audiențe, canale și frecvențele ch</a:t>
            </a:r>
            <a:r>
              <a:rPr b="1" lang="ro-RO" sz="4000" spc="-1" strike="noStrike">
                <a:solidFill>
                  <a:srgbClr val="000000"/>
                </a:solidFill>
                <a:latin typeface="Calibri"/>
              </a:rPr>
              <a:t>eie</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100A-BC4A-468A-A60A-0E660A104BB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unicarea este un element extrem de important în mediul business. De modul în care comunici poate depinde obținerea unor contracte noi, păstrarea unor parteneriate sau o relație bună cu clienții. Comunicarea ne ajută să ne facem înțeleși, să influențăm, să ne impunem punctul de vedere sau să socializăm.</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9610-D66B-422B-B367-E4293879B09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C283-AA5A-4E32-9B5A-3B33498EFF2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153" name="Picture 4" descr="Social Entrepreneruship and Traditional Entrepreneurship"/>
          <p:cNvPicPr/>
          <p:nvPr/>
        </p:nvPicPr>
        <p:blipFill>
          <a:blip r:embed="rId1"/>
          <a:stretch/>
        </p:blipFill>
        <p:spPr>
          <a:xfrm>
            <a:off x="108000" y="1125360"/>
            <a:ext cx="857880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ntru a comunica în mod coerent și eficient trebuie să îți ordonezi gândurile </a:t>
            </a:r>
            <a:br>
              <a:rPr sz="3200"/>
            </a:b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9205-329D-49D4-99DE-6D40FC9EE91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9" name="Picture 2" descr="gandire afaceri"/>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cordă o atenție sporită limbajului non-verb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Fii atent la limbajul paraverbal al interlocutorului tă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1611-3407-4B11-991D-202C0E6E74D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Folosește cuvinte cu încărcătură pozitivă</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281B-6074-4656-8A11-6DDE8672CEC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5" name="Picture 2" descr="comunicare afaceri"/>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599840"/>
            <a:ext cx="822960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Scrie emailuri clare și conc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Comunică sinc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scultă activ, pune în valoare interlocutor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2D02-49AE-4F44-B9CB-6BF664F96D8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9" name="Picture 2" descr="comunicare in afaceri"/>
          <p:cNvPicPr/>
          <p:nvPr/>
        </p:nvPicPr>
        <p:blipFill>
          <a:blip r:embed="rId1"/>
          <a:stretch/>
        </p:blipFill>
        <p:spPr>
          <a:xfrm>
            <a:off x="2843280" y="3860640"/>
            <a:ext cx="3120840" cy="20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i răbd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 Învață să negociez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Ține cont de „protocolul primelor secun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91A5-767B-4D64-B785-F6364988C22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ântul este un instrument pe care zilnic îl utilizăm în organizații. Criticăm, bârfim, lăudăm, bucurăm sau încurajă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intele pot distruge sau construi relații. Cuvintele au impact emoțional asupra celor care le rostesc sau a acelora care le ascultă.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9A8C-D9FA-4892-A6F7-2D80C8276BA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Svet</cp:lastModifiedBy>
  <dcterms:modified xsi:type="dcterms:W3CDTF">2021-09-23T12:46:22Z</dcterms:modified>
  <cp:revision>442</cp:revision>
  <dc:subject/>
  <dc:title>SEMINAR DE INSTRUIRE  MANAGEMENT ŞI PLANIFICAREA STRATEGICĂ 29 OCTOMBRIE- 2 NOIEMBRIE</dc:title>
</cp:coreProperties>
</file>