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5773-4B9D-4282-B359-C0BA791B8B6F}"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4510634-FEBA-42B4-B4E5-E3B17135A6D6}"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0"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517D898-EB83-4034-9323-25E91D54E016}"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1" name="PlaceHolder 1"/>
          <p:cNvSpPr>
            <a:spLocks noGrp="1"/>
          </p:cNvSpPr>
          <p:nvPr>
            <p:ph type="sldImg"/>
          </p:nvPr>
        </p:nvSpPr>
        <p:spPr>
          <a:xfrm>
            <a:off x="914400" y="744480"/>
            <a:ext cx="4959360" cy="3721320"/>
          </a:xfrm>
          <a:prstGeom prst="rect">
            <a:avLst/>
          </a:prstGeom>
          <a:ln w="0">
            <a:noFill/>
          </a:ln>
        </p:spPr>
      </p:sp>
      <p:sp>
        <p:nvSpPr>
          <p:cNvPr id="112"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1953F-CEA8-4556-A83B-1D2677ED0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B0CFE-6EC3-47D4-9B2E-25A4D9F81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62C6C-97BC-48DE-B234-ADDB1F370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E8830-0EBF-4940-83DB-9934A64C0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C018A-8474-4EDC-B619-BD6C3A4C1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71E4-8100-4887-B1C7-8240FE64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6793B-109F-4F9F-AA5B-25206905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524C1-DBA9-4613-99FF-C4D4CE9F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E10E-54DE-4744-9B33-198FCFCD8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EE8BD-0119-4960-91A9-A6B3C3A8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8DF0D-12FE-4C5B-B1E9-A4E93212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AB01-0E57-45AC-B121-DFB7C0671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3A80-9BF0-46FA-8987-FF2540469E6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innovatingsociety.com/totul-despre-inovare-procesul-de-inovare-abordari-si-tipuri-de-inovar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2000" y="907920"/>
            <a:ext cx="9024840" cy="605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95360" y="3193920"/>
            <a:ext cx="8358120" cy="30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400" spc="-1" strike="noStrike">
                <a:solidFill>
                  <a:srgbClr val="0070c0"/>
                </a:solidFill>
                <a:latin typeface="Segoe UI Light"/>
                <a:ea typeface="Segoe UI Light"/>
              </a:rPr>
              <a:t>Orientarea </a:t>
            </a:r>
            <a:r>
              <a:rPr b="1" lang="ro-RO" sz="2400" spc="-1" strike="noStrike">
                <a:solidFill>
                  <a:srgbClr val="0070c0"/>
                </a:solidFill>
                <a:latin typeface="Segoe UI Light"/>
                <a:ea typeface="Segoe UI Light"/>
              </a:rPr>
              <a:t>în domeniul antrprenoriatului clasic, antreprenoriatului social și responsabilității social corporative.</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 </a:t>
            </a:r>
            <a:r>
              <a:rPr b="1" lang="ro-RO" sz="2400" spc="-1" strike="noStrike">
                <a:solidFill>
                  <a:srgbClr val="0070c0"/>
                </a:solidFill>
                <a:latin typeface="Segoe UI Light"/>
                <a:ea typeface="Segoe UI Light"/>
              </a:rPr>
              <a:t>Particularitile antreprenoriatului social </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Formator: Svetlana Rața</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
          <p:cNvPicPr/>
          <p:nvPr/>
        </p:nvPicPr>
        <p:blipFill>
          <a:blip r:embed="rId1"/>
          <a:stretch/>
        </p:blipFill>
        <p:spPr>
          <a:xfrm>
            <a:off x="457200" y="1844640"/>
            <a:ext cx="8229600" cy="275436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120C-432D-4464-90FB-D1793BCA530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4" descr=""/>
          <p:cNvPicPr/>
          <p:nvPr/>
        </p:nvPicPr>
        <p:blipFill>
          <a:blip r:embed="rId1"/>
          <a:stretch/>
        </p:blipFill>
        <p:spPr>
          <a:xfrm>
            <a:off x="971640" y="1125360"/>
            <a:ext cx="7086600" cy="4526280"/>
          </a:xfrm>
          <a:prstGeom prst="rect">
            <a:avLst/>
          </a:prstGeom>
          <a:ln w="0">
            <a:noFill/>
          </a:ln>
        </p:spPr>
      </p:pic>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7A9E-F822-4207-9BFA-05B92E17C11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4" descr=""/>
          <p:cNvPicPr/>
          <p:nvPr/>
        </p:nvPicPr>
        <p:blipFill>
          <a:blip r:embed="rId1"/>
          <a:stretch/>
        </p:blipFill>
        <p:spPr>
          <a:xfrm>
            <a:off x="539640" y="1413000"/>
            <a:ext cx="8229600" cy="4233600"/>
          </a:xfrm>
          <a:prstGeom prst="rect">
            <a:avLst/>
          </a:prstGeom>
          <a:ln w="0">
            <a:noFill/>
          </a:ln>
        </p:spPr>
      </p:pic>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6865-E902-44B2-85BE-2A2B1EDFFC5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11280" y="836640"/>
            <a:ext cx="7921440" cy="4248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treprinderea socială este întreprinderea constituită de asociaţii obşteşti, fundaţii, culte religioase, instituţii private şi/sau persoane fizice care desfăşoară activităţi de antreprenoriat social în vederea soluționării unor probleme sociale de interes comu</a:t>
            </a:r>
            <a:r>
              <a:rPr b="0" lang="ro-RO" sz="2800" spc="-1" strike="noStrike">
                <a:solidFill>
                  <a:srgbClr val="000000"/>
                </a:solidFill>
                <a:latin typeface="Calibri"/>
              </a:rPr>
              <a:t>n</a:t>
            </a:r>
            <a:endParaRPr b="0" lang="en-US" sz="28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844F-9FD0-4B44-960B-D0F720A0908B}"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599840"/>
            <a:ext cx="8229600" cy="2692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ntreprinderile sociale de inserţie sînt întreprinderi sociale care au ca scop crearea locurilor de muncă şi încadrarea, în mod prioritar, a persoanelor din categoriile defavorizate ale populaţi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2DB0-F3F6-4686-9295-1AEA1B6857B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9640" y="2349360"/>
            <a:ext cx="8229600" cy="182880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Ce c</a:t>
            </a:r>
            <a:r>
              <a:rPr b="0" lang="fr-FR" sz="4000" spc="-1" strike="noStrike">
                <a:solidFill>
                  <a:srgbClr val="000000"/>
                </a:solidFill>
                <a:latin typeface="Calibri"/>
              </a:rPr>
              <a:t>onstituie activităţi de antreprenoriat social </a:t>
            </a: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575B-BAB4-4023-8C13-2C6B81C19D6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276280"/>
            <a:ext cx="8229600" cy="20444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ţii pentru atribuirea statutului de întreprindere socială şi a statutului de întreprindere socială de inserţie</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049F-7844-4272-ADDE-21E5D308BF7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3. Modul de introducere a inovației sociale în modelul de afacer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Importanța măsurării și raportării impactului social și economic al unei întreprinderi sociale</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BEA3-982D-4EED-B15A-FEF2EEC3FFF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83664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tru început, definim</a:t>
            </a:r>
            <a:r>
              <a:rPr b="0" lang="en-US" sz="3200" spc="-1" strike="noStrike" u="sng">
                <a:solidFill>
                  <a:srgbClr val="0000ff"/>
                </a:solidFill>
                <a:uFillTx/>
                <a:latin typeface="Calibri"/>
                <a:hlinkClick r:id="rId1"/>
              </a:rPr>
              <a:t> inovarea</a:t>
            </a:r>
            <a:r>
              <a:rPr b="0" lang="en-US" sz="3200" spc="-1" strike="noStrike">
                <a:solidFill>
                  <a:srgbClr val="000000"/>
                </a:solidFill>
                <a:latin typeface="Calibri"/>
              </a:rPr>
              <a:t> ca și </a:t>
            </a:r>
            <a:r>
              <a:rPr b="1" lang="en-US" sz="3200" spc="-1" strike="noStrike">
                <a:solidFill>
                  <a:srgbClr val="000000"/>
                </a:solidFill>
                <a:latin typeface="Calibri"/>
              </a:rPr>
              <a:t> aplicarea comercială cu succes a unei idei, prin procese care îmbunătățesc sau creează produse noi, servicii noi sau chiar industrii noi.</a:t>
            </a:r>
            <a:r>
              <a:rPr b="0" lang="en-US" sz="3200" spc="-1" strike="noStrike">
                <a:solidFill>
                  <a:srgbClr val="000000"/>
                </a:solidFill>
                <a:latin typeface="Calibri"/>
              </a:rPr>
              <a:t>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idee este inovativă doar în momentul în care este dezirabilă în rândul consumatorilor, fezabilă din punct de vedere tehnologic și viabilă din punct de vedere financiar</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C6F8-105C-48D7-BEF5-0FA587AC195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ovarea socială</a:t>
            </a:r>
            <a:r>
              <a:rPr b="0" lang="en-US" sz="2800" spc="-1" strike="noStrike">
                <a:solidFill>
                  <a:srgbClr val="000000"/>
                </a:solidFill>
                <a:latin typeface="Calibri"/>
              </a:rPr>
              <a:t> este actul de a crea noi soluții (produse, servicii, modele, industrii, procese) care satisfac o nevoie socială, nevoie care fie nu era satisfăcută până atunci, fie nu era satisfăcută eficient și care duc la noi capabilități și relații și o folosire mai eficientă a resurselor și valorilo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șadar, inovarea socială mută accentul de la binele și nevoile individidului spre binele și nevoile societății.</a:t>
            </a:r>
            <a:endParaRPr b="0" lang="en-US" sz="28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C8F7-325A-480D-8BD4-371E1A5211C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7E55-BB9E-4F95-B722-ED1E610A3EF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2" name="Picture 4" descr="Social Entrepreneruship and Traditional Entrepreneurship"/>
          <p:cNvPicPr/>
          <p:nvPr/>
        </p:nvPicPr>
        <p:blipFill>
          <a:blip r:embed="rId1"/>
          <a:stretch/>
        </p:blipFill>
        <p:spPr>
          <a:xfrm>
            <a:off x="324000" y="765000"/>
            <a:ext cx="807552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598E-CD71-4298-A175-EE5C1E4535B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8" name="Picture 2" descr="Hand holding coins and plant as a symbol for social innovation"/>
          <p:cNvPicPr/>
          <p:nvPr/>
        </p:nvPicPr>
        <p:blipFill>
          <a:blip r:embed="rId1"/>
          <a:stretch/>
        </p:blipFill>
        <p:spPr>
          <a:xfrm>
            <a:off x="1116000" y="126828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34880" y="1052280"/>
            <a:ext cx="8229600" cy="431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a:t>
            </a:r>
            <a:r>
              <a:rPr b="0" lang="en-US" sz="2400" spc="-1" strike="noStrike">
                <a:solidFill>
                  <a:srgbClr val="000000"/>
                </a:solidFill>
                <a:latin typeface="Calibri"/>
              </a:rPr>
              <a:t>acă este vorba de idee, </a:t>
            </a:r>
            <a:r>
              <a:rPr b="1" lang="en-US" sz="2400" spc="-1" strike="noStrike">
                <a:solidFill>
                  <a:srgbClr val="000000"/>
                </a:solidFill>
                <a:latin typeface="Calibri"/>
              </a:rPr>
              <a:t>inovarea socială</a:t>
            </a:r>
            <a:r>
              <a:rPr b="0" lang="en-US" sz="2400" spc="-1" strike="noStrike">
                <a:solidFill>
                  <a:srgbClr val="000000"/>
                </a:solidFill>
                <a:latin typeface="Calibri"/>
              </a:rPr>
              <a:t> apare de cele mai multe ori sub forma unor </a:t>
            </a:r>
            <a:r>
              <a:rPr b="1" lang="en-US" sz="2400" spc="-1" strike="noStrike">
                <a:solidFill>
                  <a:srgbClr val="000000"/>
                </a:solidFill>
                <a:latin typeface="Calibri"/>
              </a:rPr>
              <a:t>fonduri și proiecte la scară largă</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ovarea socială</a:t>
            </a:r>
            <a:r>
              <a:rPr b="0" lang="en-US" sz="2400" spc="-1" strike="noStrike">
                <a:solidFill>
                  <a:srgbClr val="000000"/>
                </a:solidFill>
                <a:latin typeface="Calibri"/>
              </a:rPr>
              <a:t>, ținând cont de idee și de proiect, satisface beneficiarul doar la un nivel superficial, în timp ce antreprenoriatul social îl învață pe beneficiar să își satisfacă singur nevoile. Acest lucru poate fi comparat cu proverbul – ” Dă-i unui om un pește și va mânca o zi, învață-l să pescuiască și va mânca în fiecare zi.”</a:t>
            </a:r>
            <a:endParaRPr b="0" lang="en-US" sz="24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01FE-1710-4661-A4B9-82229CCCBC4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836280"/>
            <a:ext cx="8229600" cy="528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libri"/>
              </a:rPr>
              <a:t>Inovarea sociala se poate pune în practica prin mai multe tehni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sarea unui nou produs pe pia</a:t>
            </a:r>
            <a:r>
              <a:rPr b="0" lang="ro-MD" sz="3200" spc="-1" strike="noStrike">
                <a:solidFill>
                  <a:srgbClr val="000000"/>
                </a:solidFill>
                <a:latin typeface="Calibri"/>
              </a:rPr>
              <a:t>ț</a:t>
            </a:r>
            <a:r>
              <a:rPr b="0" lang="en-US" sz="3200" spc="-1" strike="noStrike">
                <a:solidFill>
                  <a:srgbClr val="000000"/>
                </a:solidFill>
                <a:latin typeface="Calibri"/>
              </a:rPr>
              <a:t>a;</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dificarea </a:t>
            </a:r>
            <a:r>
              <a:rPr b="0" lang="ro-MD" sz="3200" spc="-1" strike="noStrike">
                <a:solidFill>
                  <a:srgbClr val="000000"/>
                </a:solidFill>
                <a:latin typeface="Calibri"/>
              </a:rPr>
              <a:t>ș</a:t>
            </a:r>
            <a:r>
              <a:rPr b="0" lang="en-US" sz="3200" spc="-1" strike="noStrike">
                <a:solidFill>
                  <a:srgbClr val="000000"/>
                </a:solidFill>
                <a:latin typeface="Calibri"/>
              </a:rPr>
              <a:t>i îmbunata</a:t>
            </a:r>
            <a:r>
              <a:rPr b="0" lang="ro-MD" sz="3200" spc="-1" strike="noStrike">
                <a:solidFill>
                  <a:srgbClr val="000000"/>
                </a:solidFill>
                <a:latin typeface="Calibri"/>
              </a:rPr>
              <a:t>ț</a:t>
            </a:r>
            <a:r>
              <a:rPr b="0" lang="en-US" sz="3200" spc="-1" strike="noStrike">
                <a:solidFill>
                  <a:srgbClr val="000000"/>
                </a:solidFill>
                <a:latin typeface="Calibri"/>
              </a:rPr>
              <a:t>irea produselor, a serviciilor sau a tehnologiei utilizate;</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organizarea structurii organizatorice a companiei;</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49D7-D8AB-4C9C-A578-FD9D0F82F4C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politicilor de abordare a clien.ilor, de promovare a produselor </a:t>
            </a:r>
            <a:r>
              <a:rPr b="0" lang="ro-MD" sz="3200" spc="-1" strike="noStrike">
                <a:solidFill>
                  <a:srgbClr val="000000"/>
                </a:solidFill>
                <a:latin typeface="Calibri"/>
              </a:rPr>
              <a:t>ș</a:t>
            </a:r>
            <a:r>
              <a:rPr b="0" lang="en-US" sz="3200" spc="-1" strike="noStrike">
                <a:solidFill>
                  <a:srgbClr val="000000"/>
                </a:solidFill>
                <a:latin typeface="Calibri"/>
              </a:rPr>
              <a:t>i serviciilo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aspectului produsului, îmbunata.irea serviciilor prin achizi</a:t>
            </a:r>
            <a:r>
              <a:rPr b="0" lang="ro-MD" sz="3200" spc="-1" strike="noStrike">
                <a:solidFill>
                  <a:srgbClr val="000000"/>
                </a:solidFill>
                <a:latin typeface="Calibri"/>
              </a:rPr>
              <a:t>ț</a:t>
            </a:r>
            <a:r>
              <a:rPr b="0" lang="en-US" sz="3200" spc="-1" strike="noStrike">
                <a:solidFill>
                  <a:srgbClr val="000000"/>
                </a:solidFill>
                <a:latin typeface="Calibri"/>
              </a:rPr>
              <a:t>ia de noi inven</a:t>
            </a:r>
            <a:r>
              <a:rPr b="0" lang="ro-MD" sz="3200" spc="-1" strike="noStrike">
                <a:solidFill>
                  <a:srgbClr val="000000"/>
                </a:solidFill>
                <a:latin typeface="Calibri"/>
              </a:rPr>
              <a:t>ț</a:t>
            </a:r>
            <a:r>
              <a:rPr b="0" lang="en-US" sz="3200" spc="-1" strike="noStrike">
                <a:solidFill>
                  <a:srgbClr val="000000"/>
                </a:solidFill>
                <a:latin typeface="Calibri"/>
              </a:rPr>
              <a:t>ii sau tehnologi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A598-D763-44DF-B10F-99036D572E1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2708280"/>
            <a:ext cx="8229600" cy="1325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4. Rolul statului în susținerea și dezvoltarea antreprenoriatului soci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5E57-FE32-44A5-8739-118613A64B7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normativ de reglementare ș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de politici public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ăsuri de sprijin şi încurajare a antreprenoriatului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1472-2BA4-4739-B78C-02B5C32ACB3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7440" y="1412640"/>
            <a:ext cx="82296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Programul Național pentru Dezvoltarea Antreprenoriatului Social în Republica Moldova (2021-2025) </a:t>
            </a:r>
            <a:endParaRPr b="0" lang="en-US" sz="2800" spc="-1" strike="noStrike">
              <a:solidFill>
                <a:srgbClr val="000000"/>
              </a:solidFill>
              <a:latin typeface="Calibri"/>
            </a:endParaRPr>
          </a:p>
        </p:txBody>
      </p:sp>
      <p:sp>
        <p:nvSpPr>
          <p:cNvPr id="101" name=""/>
          <p:cNvSpPr txBox="1"/>
          <p:nvPr/>
        </p:nvSpPr>
        <p:spPr>
          <a:xfrm>
            <a:off x="487440" y="2852640"/>
            <a:ext cx="8229600" cy="250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mularea dezvoltării economiei sociale cu accente pe</a:t>
            </a:r>
            <a:r>
              <a:rPr b="0" lang="ro-RO"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rea cadrului normativ și regulat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orirea capacităților instituționale a actorilor implicaț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rea premiselor instituționale, financiare și fiscale pentru valorificarea potențialului antreprenorialului social</a:t>
            </a:r>
            <a:endParaRPr b="0" lang="en-US" sz="24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12AF-53E2-4289-8229-9B25ECDB850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5. Rolul antreprenoriatului social în dezvoltarea statulu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D9A7-3609-4628-853C-1253669C350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Contribuie la:</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durabi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solidare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regiona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locală</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66A7-BC37-48BA-A9F7-1AC9723B415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71600" y="907920"/>
            <a:ext cx="82296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o-RO" sz="2800" spc="-1" strike="noStrike">
                <a:solidFill>
                  <a:srgbClr val="0070c0"/>
                </a:solidFill>
                <a:latin typeface="Calibri"/>
              </a:rPr>
              <a:t>1. </a:t>
            </a:r>
            <a:r>
              <a:rPr b="1" lang="en-US" sz="2800" spc="-1" strike="noStrike">
                <a:solidFill>
                  <a:srgbClr val="0070c0"/>
                </a:solidFill>
                <a:latin typeface="Calibri"/>
              </a:rPr>
              <a:t>Orientarea </a:t>
            </a:r>
            <a:r>
              <a:rPr b="1" lang="ro-RO" sz="2800" spc="-1" strike="noStrike">
                <a:solidFill>
                  <a:srgbClr val="0070c0"/>
                </a:solidFill>
                <a:latin typeface="Calibri"/>
              </a:rPr>
              <a:t>în domeniul antrprenoriatului clasic antreprenoriatului social și responsabilității social corporative.   </a:t>
            </a:r>
            <a:endParaRPr b="0" lang="en-US" sz="2800" spc="-1" strike="noStrike">
              <a:solidFill>
                <a:srgbClr val="000000"/>
              </a:solidFill>
              <a:latin typeface="Calibri"/>
            </a:endParaRPr>
          </a:p>
        </p:txBody>
      </p:sp>
      <p:sp>
        <p:nvSpPr>
          <p:cNvPr id="54" name=""/>
          <p:cNvSpPr txBox="1"/>
          <p:nvPr/>
        </p:nvSpPr>
        <p:spPr>
          <a:xfrm>
            <a:off x="457200" y="5516280"/>
            <a:ext cx="8229600" cy="60948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0731-81CF-4446-9C89-9348C312C8DB}" type="slidenum">
              <a:rPr b="1"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31640" y="1413000"/>
            <a:ext cx="8229600" cy="34560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treprenoriatul social</a:t>
            </a:r>
            <a:r>
              <a:rPr b="0" lang="en-US" sz="3200" spc="-1" strike="noStrike">
                <a:solidFill>
                  <a:srgbClr val="000000"/>
                </a:solidFill>
                <a:latin typeface="Calibri"/>
              </a:rPr>
              <a:t> este domeniul care poate schimba direcția în care se îndreaptă, de ceva vreme, mediul de afaceri dominat de business-uri îndreptate spre profit. </a:t>
            </a:r>
            <a:r>
              <a:rPr b="0" lang="ro-RO" sz="3200" spc="-1" strike="noStrike">
                <a:solidFill>
                  <a:srgbClr val="000000"/>
                </a:solidFill>
                <a:latin typeface="Calibri"/>
              </a:rPr>
              <a:t>A</a:t>
            </a:r>
            <a:r>
              <a:rPr b="0" lang="en-US" sz="3200" spc="-1" strike="noStrike">
                <a:solidFill>
                  <a:srgbClr val="000000"/>
                </a:solidFill>
                <a:latin typeface="Calibri"/>
              </a:rPr>
              <a:t>ntreprenoriatul social este un fenomen care poate aduce lumea business-ului mai aproape de oameni</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0CD8-3A1D-4EC4-B683-BCDB468D097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ntreprenoriatul soci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oluţionarea unor probleme sociale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esul comunității</a:t>
            </a:r>
            <a:r>
              <a:rPr b="0" lang="ro-RO" sz="3200" spc="-1" strike="noStrike">
                <a:solidFill>
                  <a:srgbClr val="0070c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4000" y="1557000"/>
            <a:ext cx="8642160" cy="311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solidarea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zvoltarea serviciilor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cluziun</a:t>
            </a:r>
            <a:r>
              <a:rPr b="0" lang="ro-RO" sz="3200" spc="-1" strike="noStrike">
                <a:solidFill>
                  <a:srgbClr val="000000"/>
                </a:solidFill>
                <a:latin typeface="Calibri"/>
              </a:rPr>
              <a:t>e</a:t>
            </a:r>
            <a:r>
              <a:rPr b="0" lang="it-IT" sz="3200" spc="-1" strike="noStrike">
                <a:solidFill>
                  <a:srgbClr val="000000"/>
                </a:solidFill>
                <a:latin typeface="Calibri"/>
              </a:rPr>
              <a:t> social</a:t>
            </a:r>
            <a:r>
              <a:rPr b="0" lang="ro-RO" sz="3200" spc="-1" strike="noStrike">
                <a:solidFill>
                  <a:srgbClr val="000000"/>
                </a:solidFill>
                <a:latin typeface="Calibri"/>
              </a:rPr>
              <a:t>ă</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8D34-629D-446E-B8E8-9A4446C0186D}"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3640" y="1628280"/>
            <a:ext cx="8569080" cy="324036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2. Antreprenoriat social / antreprenoriat social de inserți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Cerințe, termeni, procedur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7FDD-3993-4BBA-9282-A8EEA4A59888}"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39560" y="1700280"/>
            <a:ext cx="8229600" cy="3673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Antreprenoriatul social contribuie la îmbunat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rea condi</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ilor de vi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a </a:t>
            </a:r>
            <a:r>
              <a:rPr b="0" lang="ro-MD" sz="2400" spc="-1" strike="noStrike">
                <a:solidFill>
                  <a:srgbClr val="000000"/>
                </a:solidFill>
                <a:latin typeface="Calibri"/>
                <a:ea typeface="Segoe UI Light"/>
              </a:rPr>
              <a:t>ș</a:t>
            </a:r>
            <a:r>
              <a:rPr b="0" lang="en-US" sz="2400" spc="-1" strike="noStrike">
                <a:solidFill>
                  <a:srgbClr val="000000"/>
                </a:solidFill>
                <a:latin typeface="Calibri"/>
                <a:ea typeface="Segoe UI Light"/>
              </a:rPr>
              <a:t>i ofera oportunita</a:t>
            </a:r>
            <a:r>
              <a:rPr b="0" lang="ro-MD" sz="2400" spc="-1" strike="noStrike">
                <a:solidFill>
                  <a:srgbClr val="000000"/>
                </a:solidFill>
                <a:latin typeface="Calibri"/>
                <a:ea typeface="Segoe UI Light"/>
              </a:rPr>
              <a:t>te</a:t>
            </a:r>
            <a:r>
              <a:rPr b="0" lang="en-US" sz="2400" spc="-1" strike="noStrike">
                <a:solidFill>
                  <a:srgbClr val="000000"/>
                </a:solidFill>
                <a:latin typeface="Calibri"/>
                <a:ea typeface="Segoe UI Light"/>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persoanelor din categoriile defavorizate ale popula.iei de a se implica în activ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economice si sociale, inclusiv la nivelul colectivita.ilor locale, contribuie la ocuparea forte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de munca, dezvoltarea serviciilor sociale în interesul comunita</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6B25-A632-44F3-8915-506AF983F9C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4" descr=""/>
          <p:cNvPicPr/>
          <p:nvPr/>
        </p:nvPicPr>
        <p:blipFill>
          <a:blip r:embed="rId1"/>
          <a:stretch/>
        </p:blipFill>
        <p:spPr>
          <a:xfrm>
            <a:off x="457200" y="2558880"/>
            <a:ext cx="8229600" cy="2608560"/>
          </a:xfrm>
          <a:prstGeom prst="rect">
            <a:avLst/>
          </a:prstGeom>
          <a:ln w="0">
            <a:noFill/>
          </a:ln>
        </p:spPr>
      </p:pic>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E7A0-910A-416A-9ED4-3596D6083AF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admin</cp:lastModifiedBy>
  <dcterms:modified xsi:type="dcterms:W3CDTF">2021-09-23T19:42:25Z</dcterms:modified>
  <cp:revision>312</cp:revision>
  <dc:subject/>
  <dc:title>SEMINAR DE INSTRUIRE  MANAGEMENT ŞI PLANIFICAREA STRATEGICĂ 29 OCTOMBRIE- 2 NOIEMBRIE</dc:title>
</cp:coreProperties>
</file>